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E3B-48D6-4420-996E-8F8FD136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D9D-EBA2-4720-95D2-17D8E56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4B9-BD18-403D-9A3C-A685D11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218-E166-48EF-A87B-59662035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E63F-914E-47F0-BB31-683D30BF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211B-7855-4D4F-9ADB-A0AD681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1A87-C822-4585-8CDF-30D9EDD3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74B6-591A-4291-995C-2BFCFF6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FAB-B36E-4B4A-85C9-3A9DFA0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4A3-72A4-46F8-B519-C03A7AF9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436-CF26-4AF8-9DBB-B6E49C3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D58-77CE-4ED7-BA8F-2874C6A4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E3AD-0E72-43E5-B1B2-10C6A01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2F8D-559D-41BD-A54D-FD3F8DB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097E-4BE8-4894-B7C5-B08156D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E21-4E5D-48FE-85A1-8CB2869B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0E87-A100-4DF7-88A6-C6CCBFEF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594-C18E-472F-AC80-70E1D18E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2AE-3DB6-4C08-9198-819932AF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6FA-58A7-4A25-9300-C8F506B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482-AD1E-4EFB-969B-A7DA300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2E6-A5EA-41E1-AF18-DFD5716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C5C-E4C0-4783-9F97-6690AFC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2AD-810B-4CB3-BFA4-EBCD948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73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A6B-66C7-4E48-B984-398D3AB028E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4984" t="18507" r="6460" b="70685"/>
          <a:stretch/>
        </p:blipFill>
        <p:spPr>
          <a:xfrm>
            <a:off x="0" y="0"/>
            <a:ext cx="9144000" cy="669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68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982920" y="632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B1E2-63E3-4135-8DD2-221BEFBEB49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8354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976400"/>
            <a:ext cx="777528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8986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28960" y="279360"/>
            <a:ext cx="148428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6280" y="3789360"/>
            <a:ext cx="76942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Ching-Hui W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Department of Nuclear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Atomic Energy Council,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September 23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720" y="907920"/>
            <a:ext cx="8271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n Overview of the Recommendations from NEA pe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704-3450-49F7-95C5-42E03BEAD36F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ependent Peer Review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76280" y="1494000"/>
          <a:ext cx="8229240" cy="4814280"/>
        </p:xfrm>
        <a:graphic>
          <a:graphicData uri="http://schemas.openxmlformats.org/drawingml/2006/table">
            <a:tbl>
              <a:tblPr/>
              <a:tblGrid>
                <a:gridCol w="2604600"/>
                <a:gridCol w="2960280"/>
                <a:gridCol w="266436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ffiliation/Nation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 charge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r. John A. NAKO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uclear Energy Agency, OECD (U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am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Aybars GURPI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A Consultant (Turke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arthqu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David SQUA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A Consultant (U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Katsurori OG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NES (Jap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treme Natur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r. Mel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A Consultant (U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ss of Electrical Power and Loss of Ultimate Heat S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Hitoshi M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NES (Jap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vere Acciden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69160" y="630864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r. Wei-Whua LOA, Liaison with AE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F63-6C3F-4A2D-B7DE-4700D4CEC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OECD/NEA pee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</a:rPr>
              <a:t>Desktop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January ~ February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</a:rPr>
              <a:t>2 weeks visit to Taiw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March 4 ~ March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AEC, TPC headquarters, and site visit to Kuosheng N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</a:rPr>
              <a:t>Final report from IP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April 23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BC3-F311-4872-BED5-492CFA187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rom NEA peer review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41280" y="1409760"/>
          <a:ext cx="8435880" cy="5257800"/>
        </p:xfrm>
        <a:graphic>
          <a:graphicData uri="http://schemas.openxmlformats.org/drawingml/2006/table">
            <a:tbl>
              <a:tblPr/>
              <a:tblGrid>
                <a:gridCol w="630360"/>
                <a:gridCol w="1081080"/>
                <a:gridCol w="3195720"/>
                <a:gridCol w="900000"/>
                <a:gridCol w="26287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-up by A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ontinue ongoing seismic re-evaluation and upgrading effo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Supplement o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Geological Investiga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perform fault displacement hazard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1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deploy a local seismic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HQ-JLD-10201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demonstrate seismic stability and integrity of alternate UH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provide an interface between post-earthquake and post-tsunami operating 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2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 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revisit maximum magnitude values of fault for tsunamic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934-11A0-44A1-AD96-C8BD338837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rom NEA peer review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14280" y="1494000"/>
          <a:ext cx="8435880" cy="5000400"/>
        </p:xfrm>
        <a:graphic>
          <a:graphicData uri="http://schemas.openxmlformats.org/drawingml/2006/table">
            <a:tbl>
              <a:tblPr/>
              <a:tblGrid>
                <a:gridCol w="585720"/>
                <a:gridCol w="944640"/>
                <a:gridCol w="3511440"/>
                <a:gridCol w="892080"/>
                <a:gridCol w="250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-up by A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evaluate submarine volcano 18km north of CSNPP and KSN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delete NSC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ational Report is revis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address the tsunami resulting from undersea volcanic eruptions and undersea landsl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onsider the detail geological information near the plant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re-assess and to take adequate measures against the indirect effects of tsuna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re-analyze the tsunami hazard using the state-of-the-art modeling and updated information and 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validate the tsunami computer codes against scaled physical model replica of all NPP sites (including exact bathymet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A16-4055-424C-B910-410DA566F0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rom NEA peer review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76200" y="1494000"/>
          <a:ext cx="8389800" cy="4943160"/>
        </p:xfrm>
        <a:graphic>
          <a:graphicData uri="http://schemas.openxmlformats.org/drawingml/2006/table">
            <a:tbl>
              <a:tblPr/>
              <a:tblGrid>
                <a:gridCol w="583920"/>
                <a:gridCol w="990720"/>
                <a:gridCol w="3556080"/>
                <a:gridCol w="988920"/>
                <a:gridCol w="2270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-up by A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oding Extreme Haz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systematically assess the combinations of events in the areas of flooding and extreme natural 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2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2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3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o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heck the probable maximum precipitation with regional topographical map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4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s of Safety 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use FSAR design values to analyze system responses unless more realistic values are just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C requests TPC to revise the utility repor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re Acciden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t to store mobile equipment for severe accident management response at on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re Acciden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use site specific PRAs to provide better insights for severe accident management including extending the PRA scope to plant shut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607-4A9B-4D56-A204-506F5F484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71640" y="2079720"/>
            <a:ext cx="5580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Thanks 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for Your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Atten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B9B-EA61-40D6-B877-C99A6D46F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9:30:06Z</dcterms:created>
  <dc:creator/>
  <dc:description/>
  <dc:language>en-US</dc:language>
  <cp:lastModifiedBy>AEC</cp:lastModifiedBy>
  <dcterms:modified xsi:type="dcterms:W3CDTF">2013-09-22T18:20:47Z</dcterms:modified>
  <cp:revision>1421</cp:revision>
  <dc:subject/>
  <dc:title>開場或參考話題</dc:title>
</cp:coreProperties>
</file>