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CB2E3-FD30-4044-A2DF-BCD25743E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6580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494000"/>
            <a:ext cx="822960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4008960"/>
            <a:ext cx="822960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F8A7B-E35D-4E53-B20D-167551083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6580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494000"/>
            <a:ext cx="401580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494000"/>
            <a:ext cx="401580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08960"/>
            <a:ext cx="401580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4008960"/>
            <a:ext cx="401580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E3638-ABA8-49A0-860F-D2921101F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6580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494000"/>
            <a:ext cx="264960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494000"/>
            <a:ext cx="264960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494000"/>
            <a:ext cx="264960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4008960"/>
            <a:ext cx="264960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4008960"/>
            <a:ext cx="264960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4008960"/>
            <a:ext cx="264960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2A03E-E0AB-4810-A05D-4743C6589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490C9-B2FB-4CDC-A6ED-39B9B578E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6580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494000"/>
            <a:ext cx="8229600" cy="48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2A041-D09B-42E7-84F6-47D562AD5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6580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494000"/>
            <a:ext cx="822960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668A3-7380-4D0B-BDAD-B201ADA04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6580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494000"/>
            <a:ext cx="401580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494000"/>
            <a:ext cx="401580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C6DE1-2BA3-4CE0-985E-754485B8D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6580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B4A30-9F2F-4571-BA7E-D430F5A74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677520"/>
            <a:ext cx="8229600" cy="336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58B47-C36D-46BC-BE45-FAD25464D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6580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94000"/>
            <a:ext cx="401580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94000"/>
            <a:ext cx="401580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08960"/>
            <a:ext cx="401580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01654-CFFB-4A41-B7D0-8593B4AE6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6580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494000"/>
            <a:ext cx="8229600" cy="48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84312-F353-40A9-A96F-4BF89A5F8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6580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494000"/>
            <a:ext cx="401580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494000"/>
            <a:ext cx="401580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4008960"/>
            <a:ext cx="401580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4ACE7-9FE8-4166-88B2-7871C1F1D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6580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494000"/>
            <a:ext cx="401580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494000"/>
            <a:ext cx="401580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008960"/>
            <a:ext cx="822960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C331C-BAD1-4107-975F-F94AE0431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6580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494000"/>
            <a:ext cx="822960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4008960"/>
            <a:ext cx="822960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DD0BB-40E6-4B2C-9234-582C3188F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6580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494000"/>
            <a:ext cx="401580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494000"/>
            <a:ext cx="401580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08960"/>
            <a:ext cx="401580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4008960"/>
            <a:ext cx="401580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B42B5-9F84-4127-B323-70638F22F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6580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94000"/>
            <a:ext cx="264960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494000"/>
            <a:ext cx="264960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494000"/>
            <a:ext cx="264960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4008960"/>
            <a:ext cx="264960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4008960"/>
            <a:ext cx="264960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4008960"/>
            <a:ext cx="264960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3D8C0-7093-49A5-94C9-CE8A2960B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6580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494000"/>
            <a:ext cx="822960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8AFBF-08B1-4A26-A5E1-EE75CBB61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6580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94000"/>
            <a:ext cx="401580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494000"/>
            <a:ext cx="401580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AE641-EA97-4F54-8BEB-F27E422DA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6580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542BC-1643-4920-9804-37C69C5E6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677520"/>
            <a:ext cx="8229600" cy="336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C80A7-875F-4808-A525-746B10F1C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6580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94000"/>
            <a:ext cx="401580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94000"/>
            <a:ext cx="401580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4008960"/>
            <a:ext cx="401580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74727-0D72-4E5C-B37D-8E0D9E6FC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6580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94000"/>
            <a:ext cx="401580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94000"/>
            <a:ext cx="401580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4008960"/>
            <a:ext cx="401580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E4811-54B8-48C1-9FF9-CAE79DB59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6580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94000"/>
            <a:ext cx="401580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494000"/>
            <a:ext cx="401580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008960"/>
            <a:ext cx="822960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EDEDE-E3BB-45E6-B565-671AE8496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6775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494000"/>
            <a:ext cx="822960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00"/>
              </a:buClr>
              <a:buSzPct val="7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cc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73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73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373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56978-C9F9-4A43-9835-41F6E43DE0FB}" type="slidenum">
              <a:rPr b="0" lang="zh-TW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rcRect l="4984" t="18507" r="6460" b="70685"/>
          <a:stretch/>
        </p:blipFill>
        <p:spPr>
          <a:xfrm>
            <a:off x="0" y="0"/>
            <a:ext cx="9144000" cy="66996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0" y="0"/>
            <a:ext cx="46836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6705720"/>
            <a:ext cx="9144000" cy="1792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6610320"/>
            <a:ext cx="9144000" cy="54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6705720"/>
            <a:ext cx="9144000" cy="1792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6610320"/>
            <a:ext cx="9144000" cy="54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982920" y="6327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AA596-2A32-49C7-81C5-FBBF9F523B6D}" type="slidenum">
              <a:rPr b="0" lang="zh-TW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84360" y="3835440"/>
            <a:ext cx="7775280" cy="3636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4360" y="1976400"/>
            <a:ext cx="7775280" cy="126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4360" y="1898640"/>
            <a:ext cx="7775280" cy="3636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3828960" y="279360"/>
            <a:ext cx="1484280" cy="1282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746280" y="3789360"/>
            <a:ext cx="7694280" cy="247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  <a:ea typeface="標楷體"/>
              </a:rPr>
              <a:t>Ching-Hui W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  <a:ea typeface="標楷體"/>
              </a:rPr>
              <a:t>Department of Nuclear Reg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  <a:ea typeface="標楷體"/>
              </a:rPr>
              <a:t>Atomic Energy Council, Taiw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  <a:ea typeface="標楷體"/>
              </a:rPr>
              <a:t>September 23, 20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31720" y="907920"/>
            <a:ext cx="8271000" cy="19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An Overview of the Recommendations from NEA peer re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31294-EE3C-4E95-A55E-E9D346045BA0}" type="slidenum">
              <a:t>1</a:t>
            </a:fld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677520"/>
            <a:ext cx="91440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Independent Peer Review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476280" y="1494000"/>
          <a:ext cx="8229240" cy="4814280"/>
        </p:xfrm>
        <a:graphic>
          <a:graphicData uri="http://schemas.openxmlformats.org/drawingml/2006/table">
            <a:tbl>
              <a:tblPr/>
              <a:tblGrid>
                <a:gridCol w="2604600"/>
                <a:gridCol w="2960280"/>
                <a:gridCol w="2664360"/>
              </a:tblGrid>
              <a:tr h="502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Affiliation/National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In charge o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Mr. John A. NAKOSK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uclear Energy Agency, OECD (US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Team Coordinat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Dr. Aybars GURPIN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EA Consultant (Turkey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Earthquak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Dr. David SQUAR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EA Consultant (US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Flood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Dr. Katsurori OGUR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JNES (Japan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Extreme Natural Even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Mr. Mel FIELD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EA Consultant (US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Loss of Electrical Power and Loss of Ultimate Heat Sin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Dr. Hitoshi MU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JNES (Japan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Severe Accident Manage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5" name=""/>
          <p:cNvSpPr/>
          <p:nvPr/>
        </p:nvSpPr>
        <p:spPr>
          <a:xfrm>
            <a:off x="569160" y="6308640"/>
            <a:ext cx="41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r. Wei-Whua LOA, Liaison with AEC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DC3E4-9DEA-4289-9D58-DF338DEA49A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6775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0000"/>
                </a:solidFill>
                <a:latin typeface="Arial"/>
              </a:rPr>
              <a:t>OECD/NEA peer re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494000"/>
            <a:ext cx="822960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33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 Black"/>
              </a:rPr>
              <a:t>Desktop re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336600"/>
              </a:buClr>
              <a:buSzPct val="7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 Black"/>
              </a:rPr>
              <a:t>January ~ February 20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33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 Black"/>
              </a:rPr>
              <a:t>2 weeks visit to Taiw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336600"/>
              </a:buClr>
              <a:buSzPct val="7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 Black"/>
              </a:rPr>
              <a:t>March 4 ~ March 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336600"/>
              </a:buClr>
              <a:buSzPct val="7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 Black"/>
              </a:rPr>
              <a:t>AEC, TPC headquarters, and site visit to Kuosheng NP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33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 Black"/>
              </a:rPr>
              <a:t>Final report from IP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336600"/>
              </a:buClr>
              <a:buSzPct val="7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 Black"/>
              </a:rPr>
              <a:t>April 23, 20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421CA-2B24-4AA7-9AF4-B156FEB5C5D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677520"/>
            <a:ext cx="91440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commendations from NEA peer review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341280" y="1409760"/>
          <a:ext cx="8435880" cy="5257800"/>
        </p:xfrm>
        <a:graphic>
          <a:graphicData uri="http://schemas.openxmlformats.org/drawingml/2006/table">
            <a:tbl>
              <a:tblPr/>
              <a:tblGrid>
                <a:gridCol w="630360"/>
                <a:gridCol w="1081080"/>
                <a:gridCol w="3195720"/>
                <a:gridCol w="900000"/>
                <a:gridCol w="2628720"/>
              </a:tblGrid>
              <a:tr h="403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t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ro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ubgro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ollow-up by AE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7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ismi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To continue ongoing seismic re-evaluation and upgrading effor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3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cluded in the Supplement of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Geological Investigation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ismi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To perform fault displacement hazard analys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3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cluded in the Regulatory Order XX-JLD-10201 (June 6, 201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ismi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To deploy a local seismic networ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3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cluded in the Regulatory Order HQ-JLD-10201 (June 6, 201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ismi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To demonstrate seismic stability and integrity of alternate UHS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3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cluded in the Regulatory Order XX-JLD-101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ismi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To provide an interface between post-earthquake and post-tsunami operating procedur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3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cluded in the Regulatory Order XX-JLD-10202 (June 6, 201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ismic Tsuna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To revisit maximum magnitude values of fault for tsunamic sourc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3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cluded in the Regulatory Order XX-JLD-101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C01AA-FCBB-461B-A527-11C314604F1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677520"/>
            <a:ext cx="91440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commendations from NEA peer review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314280" y="1494000"/>
          <a:ext cx="8435880" cy="5000400"/>
        </p:xfrm>
        <a:graphic>
          <a:graphicData uri="http://schemas.openxmlformats.org/drawingml/2006/table">
            <a:tbl>
              <a:tblPr/>
              <a:tblGrid>
                <a:gridCol w="585720"/>
                <a:gridCol w="944640"/>
                <a:gridCol w="3511440"/>
                <a:gridCol w="892080"/>
                <a:gridCol w="25020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te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ub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ollow-up by AE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7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suna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To evaluate submarine volcano 18km north of CSNPP and KSNP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cluded in the Regulatory Order XX-JLD-101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suna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To delete NSC resul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3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he National Report is revised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suna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To address the tsunami resulting from undersea volcanic eruptions and undersea landslid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3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cluded in the Regulatory Order XX-JLD-101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78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suna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To consider the detail geological information near the plant s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3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cluded in the Regulatory Order XX-JLD-101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7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suna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To re-assess and to take adequate measures against the indirect effects of tsunam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3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cluded in the Regulatory Order XX-JLD-101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suna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To re-analyze the tsunami hazard using the state-of-the-art modeling and updated information and assumpti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4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cluded in the Regulatory Order XX-JLD-101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suna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To validate the tsunami computer codes against scaled physical model replica of all NPP sites (including exact bathymetry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4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cluded in the Regulatory Order XX-JLD-101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41908-C496-4FC7-8A7D-C7C32900E49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677520"/>
            <a:ext cx="91440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commendations from NEA peer review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376200" y="1494000"/>
          <a:ext cx="8389800" cy="4943160"/>
        </p:xfrm>
        <a:graphic>
          <a:graphicData uri="http://schemas.openxmlformats.org/drawingml/2006/table">
            <a:tbl>
              <a:tblPr/>
              <a:tblGrid>
                <a:gridCol w="583920"/>
                <a:gridCol w="990720"/>
                <a:gridCol w="3556080"/>
                <a:gridCol w="988920"/>
                <a:gridCol w="2270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te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ub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ollow-up by AE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4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looding Extreme Hazard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To systematically assess the combinations of events in the areas of flooding and extreme natural even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3.2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4.2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cluded in the Regulatory Order XX-JLD-10203 (June 6, 201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0674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lood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To check the probable maximum precipitation with regional topographical map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3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cluded in the Regulatory Order XX-JLD-10204 (June 6, 201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oss of Safety Func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To use FSAR design values to analyze system responses unless more realistic values are justifi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EC requests TPC to revise the utility report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4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vere Accident Manage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Not to store mobile equipment for severe accident management response at one loc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3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cluded in the Regulatory Order XX-JLD-10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4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vere Accident Manage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To use site specific PRAs to provide better insights for severe accident management including extending the PRA scope to plant shutdow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3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cluded in the Regulatory Order XX-JLD-101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F27F7-69F9-4560-9F71-E9477CEBC5E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971640" y="2079720"/>
            <a:ext cx="5580000" cy="23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cc3300"/>
                </a:solidFill>
                <a:latin typeface="Arial"/>
                <a:ea typeface="SimHei"/>
              </a:rPr>
              <a:t>Thanks </a:t>
            </a:r>
            <a:br>
              <a:rPr sz="6600"/>
            </a:br>
            <a:r>
              <a:rPr b="1" lang="en-US" sz="6600" spc="-1" strike="noStrike">
                <a:solidFill>
                  <a:srgbClr val="cc3300"/>
                </a:solidFill>
                <a:latin typeface="Arial"/>
                <a:ea typeface="SimHei"/>
              </a:rPr>
              <a:t>for Your</a:t>
            </a:r>
            <a:br>
              <a:rPr sz="6600"/>
            </a:br>
            <a:r>
              <a:rPr b="1" lang="en-US" sz="6600" spc="-1" strike="noStrike">
                <a:solidFill>
                  <a:srgbClr val="cc3300"/>
                </a:solidFill>
                <a:latin typeface="Arial"/>
                <a:ea typeface="SimHei"/>
              </a:rPr>
              <a:t>Attentio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8B4C8-827B-4416-B03C-6BD0F9C8C02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09:30:06Z</dcterms:created>
  <dc:creator/>
  <dc:description/>
  <dc:language>en-US</dc:language>
  <cp:lastModifiedBy>AEC</cp:lastModifiedBy>
  <dcterms:modified xsi:type="dcterms:W3CDTF">2013-09-22T18:20:47Z</dcterms:modified>
  <cp:revision>1421</cp:revision>
  <dc:subject/>
  <dc:title>開場或參考話題</dc:title>
</cp:coreProperties>
</file>