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3FBDBD-8C50-4535-B158-517F6542BA9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5040" y="4714920"/>
            <a:ext cx="4884480" cy="481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最後報告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PRA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應用未來的展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因為台電推動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PRA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應用已有一段不算短的時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總是有幾個展望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首先希望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1]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大會審查能順利完成 亦希望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2]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由目前申請方式改為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]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以減化申請及審查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目前大會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OLM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實施要點侷限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RHR,ECW/ESW, EchW,LPCS/CS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等少數系統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希望將來擴大申請範圍至其他系統如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D/G]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以美國電廠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OLM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經驗為例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.D/G OLM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尚需配合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AO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放寬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AOT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放寬才能一次完成緊急柴油發電機線上維修工作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否則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OLM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效果將大打折扣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.NRC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已核准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D/G AOT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由三天延長為十四天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緊要海水系統及緊要寒水系統允許不可用時間由三天延為七天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其他如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]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係有關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I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及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L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之規定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ILRT L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符合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RIPB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準則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其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Failure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並不會造成立即的安全顧慮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且美國研究顯示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ILRT,L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僅影響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3%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的風險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現行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次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I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及每次大修執行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LLRT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影響電廠有限的資源分配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美國電廠目前沒有不採用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Option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規定的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採用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option B I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將放寬至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一次甚至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一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未來的應用方向還有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][]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今天我的報告到這裡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謝謝大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0ED-28F6-4575-8B72-4E0D7D33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60E-701C-4311-B529-B6F5ED2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D80-B653-46B4-85B9-04CA0211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3FF-DDE8-4380-A79C-79811B93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1992-19B4-43CA-88D5-5EED8BE9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B97A-B298-4883-8027-FB05ED5D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85DD-D998-4885-8501-07139971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0D00-B4EC-4D70-B99F-8A3903CC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BC56-BAE9-4F5E-8ECD-B7C140D8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6775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ABC1-B8D4-44C9-974E-6F1BE16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A81B-05DE-4E63-AFC2-A4FCF6E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117-B36A-4AA2-BFDF-359F3B85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A537-A762-4B4B-9167-905C60E1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792D-8B9E-48E2-9D29-BE0C4881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F9E9-E2EB-4AFE-9F2E-13E8CCD3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2B8D-9FFA-4729-86A2-1773E400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562-37F5-45D1-A0D2-CF37C4A0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92D-3B29-4824-A86C-8939B85B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977-CCCB-4E5A-81E5-1EC0C0BD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433-9157-4989-B11F-724FFAE8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775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E72-8D13-4DA4-BB22-1DB59844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3C6-F24C-4A18-82AD-2C98D416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4ED-9E77-42BD-B5B8-6564338F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BA5-5195-4420-8E17-A069020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73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73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73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3B84-419A-43D4-A40E-941202D6314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4984" t="18507" r="6460" b="70685"/>
          <a:stretch/>
        </p:blipFill>
        <p:spPr>
          <a:xfrm>
            <a:off x="0" y="0"/>
            <a:ext cx="9144000" cy="669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468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05720"/>
            <a:ext cx="9144000" cy="17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10320"/>
            <a:ext cx="9144000" cy="5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705720"/>
            <a:ext cx="9144000" cy="17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10320"/>
            <a:ext cx="9144000" cy="5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982920" y="632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44C8-8E27-4C84-A211-7AB4E5278AF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835440"/>
            <a:ext cx="7775280" cy="3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976400"/>
            <a:ext cx="777528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898640"/>
            <a:ext cx="7775280" cy="3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28960" y="279360"/>
            <a:ext cx="148428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46280" y="3789360"/>
            <a:ext cx="769428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Ching-Hui W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Department of Nuclear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Atomic Energy Council,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September 23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907920"/>
            <a:ext cx="82710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n Overview of PRA Activities in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2A5-5B90-48C4-8185-DA4269A473A0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Brief History of PRA in Taiw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224000"/>
          <a:ext cx="9144000" cy="5680080"/>
        </p:xfrm>
        <a:graphic>
          <a:graphicData uri="http://schemas.openxmlformats.org/drawingml/2006/table">
            <a:tbl>
              <a:tblPr/>
              <a:tblGrid>
                <a:gridCol w="1500120"/>
                <a:gridCol w="825480"/>
                <a:gridCol w="490680"/>
                <a:gridCol w="554040"/>
                <a:gridCol w="527040"/>
                <a:gridCol w="525240"/>
                <a:gridCol w="525600"/>
                <a:gridCol w="522360"/>
                <a:gridCol w="601560"/>
                <a:gridCol w="2171880"/>
                <a:gridCol w="900000"/>
              </a:tblGrid>
              <a:tr h="28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jor P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Main Spons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eri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ope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ask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-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6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F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Kuo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AE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Base PRA mode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4.5)</a:t>
                      </a:r>
                      <a:r>
                        <a:rPr b="1" lang="en-US" sz="1000" spc="-1" strike="noStrike" baseline="30000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Maans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AE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(19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Base PRA mode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2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2.0)</a:t>
                      </a:r>
                      <a:r>
                        <a:rPr b="1" lang="en-US" sz="1000" spc="-1" strike="noStrike" baseline="30000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Chinsha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AE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Base PRA mode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3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1.0 )</a:t>
                      </a:r>
                      <a:r>
                        <a:rPr b="1" lang="en-US" sz="1000" spc="-1" strike="noStrike" baseline="30000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472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1st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Taipower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Few cases of justification  of continued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932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2nd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Taipow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DCR &amp; experience updates (~199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C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CP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marL="87480" indent="-87480">
                        <a:lnSpc>
                          <a:spcPct val="85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TIRM (risk moni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85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Fire models upgr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85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PRAM (PRA Maintenan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85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9316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3rd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Taipow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6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DCR &amp; experience updates (~200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LE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TIRM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FT Engine develo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NEI-00-02 pe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Chinshan  RIFA (Risk-informed Fire Wrapping Alternatives Analysis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RI-ISI pilo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5636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4th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Taipow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7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DCR &amp; experience updates (~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Lungmen base PRA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SDP tool (PRiSE) develo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Follow-on NEI Pe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Maintenance Rule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956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5th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Taipow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n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7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PRA model upgr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Upgrade to meet ASME/ANS PRA standards and pe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NFPA 805 transition (potent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Typhoon model enh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 gridSpan="11"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Book Antiqua"/>
                          <a:ea typeface="Times New Roman"/>
                        </a:rPr>
                        <a:t>*P: Internal at-power; SM: Seismic; TY: Typhoon; FR: Internal Fire; FL: Internal Flood; SD: Shutdown; L1: Level-1; L2: Level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Book Antiqua"/>
                          <a:ea typeface="Times New Roman"/>
                        </a:rPr>
                        <a:t>#:from US Consul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286-EE35-4945-9295-18376B2177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ement by the Suggestions from AEC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Generic ite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.C. power reliability improvement  (5th DG, G/T buildin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mergency operating procedure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evention of ATWS and operator training after AT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re protection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nhance seismic desig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ntrol room, SRV´s accumulator (C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Sluice gates, EChW/NChW hold down bolts (K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.C. battery racks (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mprove instrument air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evention of miscalibration of low-pr injection per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hange 69KV switchyard to G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HPCS/RCIC suction changeo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dd H2 control system inside contai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placing instrument junction boxes with in-line crim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NSCW system and pump vib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CW system and heat exchanger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ChW system and heat exchanger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urbine driven AFW pump room cooling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16KV switchgear room flooding protection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9BC-89B3-4BA9-ADBD-7AE646C559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5920" y="503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-going PRA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9280" y="1341000"/>
            <a:ext cx="824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9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RI-ISI program plans development for all three operating N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Kuosheng had made the first submittal in earl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Maanshan’s submittal in last July is under re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9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Base PRA models enhancement, including the Lungmen NPP, to meet ASME internal events standard (ASME/ANS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Objective: Capability Category II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Development of Internal events and internal floods PRA models for Chinshan, Kuosheng, Maan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Fire PRA for Chinshan N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Fire PRA for Kuosheng and Maanshan N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Draft of the Fire Protection Guidelines for N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Bef>
                <a:spcPts val="224"/>
              </a:spcBef>
              <a:spcAft>
                <a:spcPts val="337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Supporting potential future NFPA-805 transi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7C3-48D3-4A09-B173-53DEDA208F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 Black"/>
              </a:rPr>
              <a:t>On-going PRA Applications (Con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Aft>
                <a:spcPts val="300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SDP tool (i.e. PRiSE) kernel update and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00000"/>
              </a:lnSpc>
              <a:spcAft>
                <a:spcPts val="249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internal at-power, SD, seismic and typh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300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Supporting Maintenance Rul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00000"/>
              </a:lnSpc>
              <a:spcAft>
                <a:spcPts val="300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Tools for MR process and Integrated scheduling and risk monitoring</a:t>
            </a: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300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ASME/ANS PRA standards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00000"/>
              </a:lnSpc>
              <a:spcAft>
                <a:spcPts val="249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L-1 Internal events at-power, Seismic events, Internal f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00000"/>
              </a:lnSpc>
              <a:spcAft>
                <a:spcPts val="249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Screening of other external haz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FAD-E17A-47C1-AD44-B3DC75131E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ME/ANS PRA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1403280"/>
          <a:ext cx="8480160" cy="4815000"/>
        </p:xfrm>
        <a:graphic>
          <a:graphicData uri="http://schemas.openxmlformats.org/drawingml/2006/table">
            <a:tbl>
              <a:tblPr/>
              <a:tblGrid>
                <a:gridCol w="720720"/>
                <a:gridCol w="4557600"/>
                <a:gridCol w="1784520"/>
                <a:gridCol w="1417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ime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P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Internal events 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.12-201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, 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Internal flood 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.12-201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, 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ires 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.12-2012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.10-2017.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ismic events 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.07-2014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, 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reening and conservative analysis of other external hazards at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.12-201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, 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High wind events 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xternal flood events at power PRA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Others external hazards 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ismic margin assessment at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.07-2013.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, 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34920" y="6264360"/>
            <a:ext cx="89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PC will update the LP&amp;SD, L2 and L3 models based on the dedicated ASME PRA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346-754F-4798-A817-A1231210DC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8400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ummary of PRA Applications in Prog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96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3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Stress test support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2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Fukushima follow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3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Update of the Seismic PR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2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New earthquake evidences and faults re-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3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Development of other external events PR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2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e.x.  external floods including tsunami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3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Supporting self management of On-lin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2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OLM program plans of the 3 operating NPPs had all been approved docketed by AEC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2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Risk assessment supporting (a)(4)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023-5195-4A0C-B982-15E0D354AD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71640" y="2079720"/>
            <a:ext cx="55800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Thanks 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for Your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Atten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9BC-2D97-4BA3-9212-483D7CECE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9:30:06Z</dcterms:created>
  <dc:creator/>
  <dc:description/>
  <dc:language>en-US</dc:language>
  <cp:lastModifiedBy>AEC</cp:lastModifiedBy>
  <dcterms:modified xsi:type="dcterms:W3CDTF">2013-09-22T17:04:33Z</dcterms:modified>
  <cp:revision>1415</cp:revision>
  <dc:subject/>
  <dc:title>開場或參考話題</dc:title>
</cp:coreProperties>
</file>