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F9609BF-2691-4DA7-8813-C4F56F92260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884480" cy="481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最後報告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PRA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應用未來的展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因為台電推動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PRA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應用已有一段不算短的時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總是有幾個展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首先希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1]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大會審查能順利完成 亦希望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2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由目前申請方式改為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以減化申請及審查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目前大會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實施要點侷限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RHR,ECW/ESW, EchW,LPCS/CS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等少數系統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希望將來擴大申請範圍至其他系統如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D/G]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以美國電廠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經驗為例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.D/G OLM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尚需配合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AO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放寬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AOT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放寬才能一次完成緊急柴油發電機線上維修工作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否則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OLM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效果將大打折扣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.NRC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已核准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D/G AOT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由三天延長為十四天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緊要海水系統及緊要寒水系統允許不可用時間由三天延為七天</a:t>
            </a:r>
            <a:r>
              <a:rPr b="0" i="1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他如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係有關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及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之規定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ILRT 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符合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RIPB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準則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其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Failure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並不會造成立即的安全顧慮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且美國研究顯示 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,L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僅影響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3%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的風險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現行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及每次大修執行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LLRT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影響電廠有限的資源分配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美國電廠目前沒有不採用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ption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規定的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採用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option B ILRT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將放寬至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一次甚至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一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未來的應用方向還有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[][]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今天我的報告到這裡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謝謝大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037-FDAF-474B-820E-77885E28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CBF-6624-441C-A4E6-F8523EF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5F0-0CA2-48FC-9530-91714621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D85-F33E-4FB2-B0ED-2DFC8EB8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7386-25FB-4D68-B558-EE866873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4717-E18C-43E4-BF9E-8E0D14B9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ACCB-461C-44E2-A799-050FA60B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0E7B-6E2B-4FFE-9207-6D6F5329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C3B4-B7B6-458C-9C11-6CDDE4CD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79D-A3AE-46E9-9C0B-430A0023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523-EAA3-4E0A-A9A8-D90E400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42E-A655-4E9F-9293-1A14AD24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F1F9-C4DA-47DD-8359-1ECA450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6070-E039-4D3B-AB93-CD61AF2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D7E-AB60-41E4-823B-1F20A3CF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5A9B-CA99-41BA-AC24-09D7709E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9400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08960"/>
            <a:ext cx="264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5DBE-141E-4646-8B88-4EB4149A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ABD-8E27-42F9-95DD-35BDC8A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1E9-E1E7-4943-83A2-B7839783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D47-245B-4EDB-A509-ED8BFD5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775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6A3-6013-42BB-A606-84B9CCF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7D2-0950-4D63-B5BF-2A4F2A01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896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F6F-B5B2-42FF-BDF1-7EF90EE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58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94000"/>
            <a:ext cx="40158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8960"/>
            <a:ext cx="82296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7ED-116E-439B-9E72-6AA1A73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73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73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6D3F-3F40-494F-9B3A-AB69881A49B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4984" t="18507" r="6460" b="70685"/>
          <a:stretch/>
        </p:blipFill>
        <p:spPr>
          <a:xfrm>
            <a:off x="0" y="0"/>
            <a:ext cx="9144000" cy="669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68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705720"/>
            <a:ext cx="9144000" cy="179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10320"/>
            <a:ext cx="9144000" cy="5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982920" y="632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F8C6-A3DA-42E9-AB98-FBA82D06298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8354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76400"/>
            <a:ext cx="777528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898640"/>
            <a:ext cx="7775280" cy="3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28960" y="279360"/>
            <a:ext cx="1484280" cy="128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46280" y="3789360"/>
            <a:ext cx="7694280" cy="24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Ching-Hui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Department of Nuclea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Atomic Energy Council,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September 23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907920"/>
            <a:ext cx="8271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n Overview of PRA Activities in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2BD-7ADB-4E17-8FCD-C8DDE9D08124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Brief History of PRA in Tai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224000"/>
          <a:ext cx="9144000" cy="5680080"/>
        </p:xfrm>
        <a:graphic>
          <a:graphicData uri="http://schemas.openxmlformats.org/drawingml/2006/table">
            <a:tbl>
              <a:tblPr/>
              <a:tblGrid>
                <a:gridCol w="1500120"/>
                <a:gridCol w="825480"/>
                <a:gridCol w="490680"/>
                <a:gridCol w="554040"/>
                <a:gridCol w="527040"/>
                <a:gridCol w="525240"/>
                <a:gridCol w="525600"/>
                <a:gridCol w="522360"/>
                <a:gridCol w="601560"/>
                <a:gridCol w="2171880"/>
                <a:gridCol w="900000"/>
              </a:tblGrid>
              <a:tr h="28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jor P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Main Spons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eri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cope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ask Fo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an-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6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F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1-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Kuo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4.5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Maansh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2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2.0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Chinsha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A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Base PRA mode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1.0 )</a:t>
                      </a:r>
                      <a:r>
                        <a:rPr b="1" lang="en-US" sz="1000" spc="-1" strike="noStrike" baseline="30000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1472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1st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ew cases of justification  of continued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932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2nd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19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3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19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C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CP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IRM (risk moni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Fire models upgr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PRAM (PRA Maintenan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85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931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3rd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6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20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LE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IRM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T Engine develo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NEI-00-02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Chinshan  RIFA (Risk-informed Fire Wrapping Alternatives Analysis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RI-ISI pilo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63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4th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7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DCR &amp; experience updates (~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Lungmen base PRA mod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SDP tool (PRiSE) develo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Follow-on NEI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Maintenance Rule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5th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000" spc="-1" strike="noStrike">
                          <a:solidFill>
                            <a:srgbClr val="0000cc"/>
                          </a:solidFill>
                          <a:latin typeface="Book Antiqua"/>
                          <a:ea typeface="Times New Roman"/>
                        </a:rPr>
                        <a:t>(Taipow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Wingdings 3"/>
                          <a:ea typeface="Wingdings 3"/>
                        </a:rPr>
                        <a:t>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n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7"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PRA model upgr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Upgrade to meet ASME/ANS PRA standards and pe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NFPA 805 transition (potent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>
                        <a:lnSpc>
                          <a:spcPct val="90000"/>
                        </a:lnSpc>
                        <a:buClr>
                          <a:srgbClr val="003300"/>
                        </a:buClr>
                        <a:buSzPct val="7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Typhoon model enhan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8000" rIns="18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cc"/>
                          </a:solidFill>
                          <a:latin typeface="Book Antiqua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 gridSpan="11">
                  <a:txBody>
                    <a:bodyPr lIns="18000" rIns="18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Book Antiqua"/>
                          <a:ea typeface="Times New Roman"/>
                        </a:rPr>
                        <a:t>*P: Internal at-power; SM: Seismic; TY: Typhoon; FR: Internal Fire; FL: Internal Flood; SD: Shutdown; L1: Level-1; L2: Level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80"/>
                          </a:solidFill>
                          <a:latin typeface="Book Antiqua"/>
                          <a:ea typeface="Times New Roman"/>
                        </a:rPr>
                        <a:t>#:from US Consul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0FD-D9DC-4C54-BF25-F28A20014F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ement by the Suggestions from AEC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Generic ite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.C. power reliability improvement  (5th DG, G/T buildin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mergency operating procedur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evention of ATWS and operator training after AT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re protection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nhance seismic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ntrol room, SRV´s accumulator (C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luice gates, EChW/NChW hold down bolts (K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D.C. battery racks (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mprove instrument air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evention of miscalibration of low-pr injection per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hange 69KV switchyard to G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PCS/RCIC suction change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dd H2 control system inside contai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placing instrument junction boxes with in-line crim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NSCW system and pump 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CW system and heat exchanger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ChW system and heat exchanger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urbine driven AFW pump room cooling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16KV switchgear room flooding protection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D45-C07E-4BA7-8F89-096A62635E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5920" y="503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-going PRA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9280" y="1341000"/>
            <a:ext cx="824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RI-ISI program plans development for all three operating N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Kuosheng had made the first submittal in earl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Maanshan’s submittal in last July is under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Base PRA models enhancement, including the Lungmen NPP, to meet ASME internal events standard (ASME/ANS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Objective: Capability Category II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Development of Internal events and internal floods PRA models for Chinshan, Kuosheng, Maan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Fire PRA for Chinshan N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Aft>
                <a:spcPts val="224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Fire PRA for Kuosheng and Maanshan N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Draft of the Fire Protection Guidelines for N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Black"/>
              </a:rPr>
              <a:t>Supporting potential future NFPA-805 transi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083-D147-4C8B-BF1B-D01A91418C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7752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Black"/>
              </a:rPr>
              <a:t>On-going PRA Applications (Con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DP tool (i.e. PRiSE) kernel update and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internal at-power, SD, seismic and typh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upporting Maintenance Rul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300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Tools for MR process and Integrated scheduling and risk monitoring</a:t>
            </a: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Aft>
                <a:spcPts val="300"/>
              </a:spcAft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ASME/ANS PRA standards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L-1 Internal events at-power, Seismic events, Internal f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100000"/>
              </a:lnSpc>
              <a:spcAft>
                <a:spcPts val="249"/>
              </a:spcAft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Screening of other external haz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05F-05D5-47A1-9825-5CDAC8B6C4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ME/ANS PRA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403280"/>
          <a:ext cx="8480160" cy="4815000"/>
        </p:xfrm>
        <a:graphic>
          <a:graphicData uri="http://schemas.openxmlformats.org/drawingml/2006/table">
            <a:tbl>
              <a:tblPr/>
              <a:tblGrid>
                <a:gridCol w="720720"/>
                <a:gridCol w="4557600"/>
                <a:gridCol w="1784520"/>
                <a:gridCol w="141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im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P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nternal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12-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Internal flood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.12-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ire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12-201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.10-2017.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ismic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.07-2014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creening and conservative analysis of other external hazards a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.12-201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High wind events 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xternal flood events at power PRA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thers external hazards at power 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ismic margin assessment a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.07-2013.1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, KS,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34920" y="6264360"/>
            <a:ext cx="89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PC will update the LP&amp;SD, L2 and L3 models based on the dedicated ASME PRA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FDE-C711-454B-A5E0-5D967A367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6840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mmary of PRA Applications in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62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tress test support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Fukushima follow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Update of the Seismic PR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New earthquake evidences and faults re-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Development of other external events PR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e.x.  external floods including tsunami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00"/>
              </a:spcBef>
              <a:buClr>
                <a:srgbClr val="00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Black"/>
              </a:rPr>
              <a:t>Supporting self management of On-lin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OLM program plans of the 3 operating NPPs had all been approved docketed by AEC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249"/>
              </a:spcBef>
              <a:buClr>
                <a:srgbClr val="3366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 Black"/>
              </a:rPr>
              <a:t>Risk assessment supporting (a)(4)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FFC-1B24-4CB0-93ED-C89D383BBE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71640" y="2079720"/>
            <a:ext cx="5580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Thanks 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for Your</a:t>
            </a:r>
            <a:br>
              <a:rPr sz="6600"/>
            </a:br>
            <a:r>
              <a:rPr b="1" lang="en-US" sz="6600" spc="-1" strike="noStrike">
                <a:solidFill>
                  <a:srgbClr val="cc3300"/>
                </a:solidFill>
                <a:latin typeface="Arial"/>
                <a:ea typeface="SimHei"/>
              </a:rPr>
              <a:t>Atten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B6A-6CC0-423E-A99A-D59B9889E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9:30:06Z</dcterms:created>
  <dc:creator/>
  <dc:description/>
  <dc:language>en-US</dc:language>
  <cp:lastModifiedBy>AEC</cp:lastModifiedBy>
  <dcterms:modified xsi:type="dcterms:W3CDTF">2013-09-22T17:04:33Z</dcterms:modified>
  <cp:revision>1415</cp:revision>
  <dc:subject/>
  <dc:title>開場或參考話題</dc:title>
</cp:coreProperties>
</file>