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0432-68A3-4290-840F-DC9B3D4FABE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A25E-F808-4CDA-9D49-D8C3B6C6AE3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39960" y="4350960"/>
            <a:ext cx="501624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200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pow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get (TW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C HQ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3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7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ot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94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/3 of the staff in INER have advanced deg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f the 936, 291 (31%) with advanced degree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96B61-8F97-44EE-B790-00A12A0A342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3520" cy="412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352-613B-477E-8BA7-F3A9FA93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523-D5F7-40E7-BFCD-5E8B1CB0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FC0-E96B-458F-8F1B-1209222D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8061-ACB3-4EDF-9909-6B2EABD2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13A-DA02-4575-B4C9-F174EA2F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205B-5B5E-4FAD-9E06-862BEA67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244-DC2F-48D6-89BB-FC2F03D2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797-4AB3-41DC-A7DA-4D05A90A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EB0-0BB0-489E-ACFE-0A8516B2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81C4-7CB7-43B7-9C88-059CFD0D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AFA-A07E-4D24-A795-90273B6F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373-3FE6-438D-9F4C-D29ABEEB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1B19-1A22-4B66-92F1-FA6AFF1902B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Government Reform in Taiw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715920"/>
            <a:ext cx="64008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. Yi-Bin Chen,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artment of Nuclear Regu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iwan Atomic Energy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tember 23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標楷體"/>
              </a:rPr>
              <a:t>New Government Organizations (20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86640" y="4649760"/>
            <a:ext cx="1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203640" y="1341360"/>
            <a:ext cx="2746080" cy="633600"/>
            <a:chOff x="3203640" y="1341360"/>
            <a:chExt cx="2746080" cy="633600"/>
          </a:xfrm>
        </p:grpSpPr>
        <p:sp>
          <p:nvSpPr>
            <p:cNvPr id="274" name=""/>
            <p:cNvSpPr/>
            <p:nvPr/>
          </p:nvSpPr>
          <p:spPr>
            <a:xfrm>
              <a:off x="3203640" y="1341360"/>
              <a:ext cx="2746080" cy="633600"/>
            </a:xfrm>
            <a:custGeom>
              <a:avLst/>
              <a:gdLst/>
              <a:ahLst/>
              <a:rect l="l" t="t" r="r" b="b"/>
              <a:pathLst>
                <a:path w="5929" h="768">
                  <a:moveTo>
                    <a:pt x="256" y="768"/>
                  </a:moveTo>
                  <a:lnTo>
                    <a:pt x="5673" y="768"/>
                  </a:lnTo>
                  <a:cubicBezTo>
                    <a:pt x="5815" y="768"/>
                    <a:pt x="5929" y="653"/>
                    <a:pt x="5929" y="512"/>
                  </a:cubicBezTo>
                  <a:cubicBezTo>
                    <a:pt x="5929" y="512"/>
                    <a:pt x="5929" y="512"/>
                    <a:pt x="5929" y="512"/>
                  </a:cubicBezTo>
                  <a:lnTo>
                    <a:pt x="5929" y="512"/>
                  </a:lnTo>
                  <a:lnTo>
                    <a:pt x="5929" y="256"/>
                  </a:lnTo>
                  <a:cubicBezTo>
                    <a:pt x="5929" y="115"/>
                    <a:pt x="5815" y="0"/>
                    <a:pt x="5673" y="0"/>
                  </a:cubicBezTo>
                  <a:lnTo>
                    <a:pt x="5673" y="0"/>
                  </a:lnTo>
                  <a:lnTo>
                    <a:pt x="256" y="0"/>
                  </a:lnTo>
                  <a:cubicBezTo>
                    <a:pt x="114" y="0"/>
                    <a:pt x="0" y="115"/>
                    <a:pt x="0" y="256"/>
                  </a:cubicBezTo>
                  <a:lnTo>
                    <a:pt x="0" y="256"/>
                  </a:lnTo>
                  <a:lnTo>
                    <a:pt x="0" y="512"/>
                  </a:lnTo>
                  <a:cubicBezTo>
                    <a:pt x="0" y="653"/>
                    <a:pt x="114" y="768"/>
                    <a:pt x="256" y="768"/>
                  </a:cubicBezTo>
                  <a:close/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90920" y="1501560"/>
              <a:ext cx="231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Executive Yu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176640" y="2602080"/>
            <a:ext cx="1800000" cy="846000"/>
          </a:xfrm>
          <a:custGeom>
            <a:avLst/>
            <a:gdLst/>
            <a:ahLst/>
            <a:rect l="l" t="t" r="r" b="b"/>
            <a:pathLst>
              <a:path w="3279" h="1256">
                <a:moveTo>
                  <a:pt x="192" y="1256"/>
                </a:moveTo>
                <a:lnTo>
                  <a:pt x="3087" y="1256"/>
                </a:lnTo>
                <a:cubicBezTo>
                  <a:pt x="3193" y="1256"/>
                  <a:pt x="3279" y="1170"/>
                  <a:pt x="3279" y="1064"/>
                </a:cubicBezTo>
                <a:cubicBezTo>
                  <a:pt x="3279" y="1064"/>
                  <a:pt x="3279" y="1064"/>
                  <a:pt x="3279" y="1064"/>
                </a:cubicBezTo>
                <a:lnTo>
                  <a:pt x="3279" y="1064"/>
                </a:lnTo>
                <a:lnTo>
                  <a:pt x="3279" y="192"/>
                </a:lnTo>
                <a:cubicBezTo>
                  <a:pt x="3279" y="86"/>
                  <a:pt x="3193" y="0"/>
                  <a:pt x="3087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064"/>
                </a:lnTo>
                <a:cubicBezTo>
                  <a:pt x="0" y="1170"/>
                  <a:pt x="86" y="1256"/>
                  <a:pt x="192" y="12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71280" y="2664000"/>
            <a:ext cx="6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03280" y="4336920"/>
            <a:ext cx="204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clear regul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47880" y="4552920"/>
            <a:ext cx="77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075640" y="5516640"/>
            <a:ext cx="1794960" cy="529920"/>
            <a:chOff x="5075640" y="5516640"/>
            <a:chExt cx="1794960" cy="529920"/>
          </a:xfrm>
        </p:grpSpPr>
        <p:sp>
          <p:nvSpPr>
            <p:cNvPr id="281" name=""/>
            <p:cNvSpPr/>
            <p:nvPr/>
          </p:nvSpPr>
          <p:spPr>
            <a:xfrm>
              <a:off x="5162400" y="5516640"/>
              <a:ext cx="1708200" cy="529920"/>
            </a:xfrm>
            <a:custGeom>
              <a:avLst/>
              <a:gdLst/>
              <a:ahLst/>
              <a:rect l="l" t="t" r="r" b="b"/>
              <a:pathLst>
                <a:path w="3070" h="1535">
                  <a:moveTo>
                    <a:pt x="192" y="1535"/>
                  </a:moveTo>
                  <a:lnTo>
                    <a:pt x="2878" y="1535"/>
                  </a:lnTo>
                  <a:cubicBezTo>
                    <a:pt x="2984" y="1535"/>
                    <a:pt x="3070" y="1449"/>
                    <a:pt x="3070" y="1343"/>
                  </a:cubicBezTo>
                  <a:cubicBezTo>
                    <a:pt x="3070" y="1343"/>
                    <a:pt x="3070" y="1343"/>
                    <a:pt x="3070" y="1343"/>
                  </a:cubicBezTo>
                  <a:lnTo>
                    <a:pt x="3070" y="1343"/>
                  </a:lnTo>
                  <a:lnTo>
                    <a:pt x="3070" y="192"/>
                  </a:lnTo>
                  <a:cubicBezTo>
                    <a:pt x="3070" y="86"/>
                    <a:pt x="2984" y="0"/>
                    <a:pt x="287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343"/>
                  </a:lnTo>
                  <a:cubicBezTo>
                    <a:pt x="0" y="1449"/>
                    <a:pt x="86" y="1535"/>
                    <a:pt x="192" y="153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7520" y="553860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75640" y="5729040"/>
              <a:ext cx="175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-owned ut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093080" y="2617920"/>
            <a:ext cx="647640" cy="433080"/>
            <a:chOff x="7093080" y="2617920"/>
            <a:chExt cx="647640" cy="433080"/>
          </a:xfrm>
        </p:grpSpPr>
        <p:sp>
          <p:nvSpPr>
            <p:cNvPr id="285" name=""/>
            <p:cNvSpPr/>
            <p:nvPr/>
          </p:nvSpPr>
          <p:spPr>
            <a:xfrm>
              <a:off x="7093080" y="2617920"/>
              <a:ext cx="647640" cy="433080"/>
            </a:xfrm>
            <a:custGeom>
              <a:avLst/>
              <a:gdLst/>
              <a:ahLst/>
              <a:rect l="l" t="t" r="r" b="b"/>
              <a:pathLst>
                <a:path w="2930" h="1256">
                  <a:moveTo>
                    <a:pt x="192" y="1256"/>
                  </a:moveTo>
                  <a:lnTo>
                    <a:pt x="2738" y="1256"/>
                  </a:lnTo>
                  <a:cubicBezTo>
                    <a:pt x="2844" y="1256"/>
                    <a:pt x="2930" y="1170"/>
                    <a:pt x="2930" y="1064"/>
                  </a:cubicBezTo>
                  <a:cubicBezTo>
                    <a:pt x="2930" y="1064"/>
                    <a:pt x="2930" y="1064"/>
                    <a:pt x="2930" y="1064"/>
                  </a:cubicBezTo>
                  <a:lnTo>
                    <a:pt x="2930" y="1064"/>
                  </a:lnTo>
                  <a:lnTo>
                    <a:pt x="2930" y="192"/>
                  </a:lnTo>
                  <a:cubicBezTo>
                    <a:pt x="2930" y="86"/>
                    <a:pt x="2844" y="0"/>
                    <a:pt x="273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81280" y="2690640"/>
              <a:ext cx="52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O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332000" y="3860640"/>
            <a:ext cx="2016000" cy="1295640"/>
          </a:xfrm>
          <a:custGeom>
            <a:avLst/>
            <a:gdLst/>
            <a:ahLst/>
            <a:rect l="l" t="t" r="r" b="b"/>
            <a:pathLst>
              <a:path w="3557" h="1535">
                <a:moveTo>
                  <a:pt x="192" y="1535"/>
                </a:moveTo>
                <a:lnTo>
                  <a:pt x="3365" y="1535"/>
                </a:lnTo>
                <a:cubicBezTo>
                  <a:pt x="3471" y="1535"/>
                  <a:pt x="3557" y="1449"/>
                  <a:pt x="3557" y="1343"/>
                </a:cubicBezTo>
                <a:cubicBezTo>
                  <a:pt x="3557" y="1343"/>
                  <a:pt x="3557" y="1343"/>
                  <a:pt x="3557" y="1343"/>
                </a:cubicBezTo>
                <a:lnTo>
                  <a:pt x="3557" y="1343"/>
                </a:lnTo>
                <a:lnTo>
                  <a:pt x="3557" y="192"/>
                </a:lnTo>
                <a:cubicBezTo>
                  <a:pt x="3557" y="86"/>
                  <a:pt x="3471" y="0"/>
                  <a:pt x="3365" y="0"/>
                </a:cubicBezTo>
                <a:lnTo>
                  <a:pt x="192" y="0"/>
                </a:lnTo>
                <a:cubicBezTo>
                  <a:pt x="85" y="0"/>
                  <a:pt x="0" y="86"/>
                  <a:pt x="0" y="192"/>
                </a:cubicBezTo>
                <a:lnTo>
                  <a:pt x="0" y="192"/>
                </a:lnTo>
                <a:lnTo>
                  <a:pt x="0" y="1343"/>
                </a:lnTo>
                <a:cubicBezTo>
                  <a:pt x="0" y="1449"/>
                  <a:pt x="85" y="1535"/>
                  <a:pt x="192" y="1535"/>
                </a:cubicBezTo>
              </a:path>
            </a:pathLst>
          </a:custGeom>
          <a:solidFill>
            <a:srgbClr val="a8ffa1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44880" y="4005360"/>
            <a:ext cx="48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1640" y="2259000"/>
            <a:ext cx="7632720" cy="1440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547640" y="5516640"/>
            <a:ext cx="1443240" cy="888840"/>
            <a:chOff x="1547640" y="5516640"/>
            <a:chExt cx="1443240" cy="888840"/>
          </a:xfrm>
        </p:grpSpPr>
        <p:sp>
          <p:nvSpPr>
            <p:cNvPr id="291" name=""/>
            <p:cNvSpPr/>
            <p:nvPr/>
          </p:nvSpPr>
          <p:spPr>
            <a:xfrm>
              <a:off x="1547640" y="5516640"/>
              <a:ext cx="1443240" cy="888840"/>
            </a:xfrm>
            <a:custGeom>
              <a:avLst/>
              <a:gdLst/>
              <a:ahLst/>
              <a:rect l="l" t="t" r="r" b="b"/>
              <a:pathLst>
                <a:path w="3558" h="1535">
                  <a:moveTo>
                    <a:pt x="192" y="1535"/>
                  </a:moveTo>
                  <a:lnTo>
                    <a:pt x="3366" y="1535"/>
                  </a:lnTo>
                  <a:cubicBezTo>
                    <a:pt x="3472" y="1535"/>
                    <a:pt x="3558" y="1449"/>
                    <a:pt x="3558" y="1343"/>
                  </a:cubicBezTo>
                  <a:cubicBezTo>
                    <a:pt x="3558" y="1343"/>
                    <a:pt x="3558" y="1343"/>
                    <a:pt x="3558" y="1343"/>
                  </a:cubicBezTo>
                  <a:lnTo>
                    <a:pt x="3558" y="1343"/>
                  </a:lnTo>
                  <a:lnTo>
                    <a:pt x="3558" y="192"/>
                  </a:lnTo>
                  <a:cubicBezTo>
                    <a:pt x="3558" y="86"/>
                    <a:pt x="3472" y="0"/>
                    <a:pt x="3366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343"/>
                  </a:lnTo>
                  <a:cubicBezTo>
                    <a:pt x="0" y="1449"/>
                    <a:pt x="86" y="1535"/>
                    <a:pt x="192" y="1535"/>
                  </a:cubicBezTo>
                </a:path>
              </a:pathLst>
            </a:custGeom>
            <a:solidFill>
              <a:srgbClr val="f4d6fe"/>
            </a:solidFill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43000" y="5587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40520" y="5873760"/>
              <a:ext cx="127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vironmen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56880" y="605772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V="1">
            <a:off x="4140360" y="3564000"/>
            <a:ext cx="2411280" cy="936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1989000"/>
            <a:ext cx="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092560" y="2616120"/>
            <a:ext cx="1928880" cy="846000"/>
            <a:chOff x="5092560" y="2616120"/>
            <a:chExt cx="1928880" cy="846000"/>
          </a:xfrm>
        </p:grpSpPr>
        <p:sp>
          <p:nvSpPr>
            <p:cNvPr id="298" name=""/>
            <p:cNvSpPr/>
            <p:nvPr/>
          </p:nvSpPr>
          <p:spPr>
            <a:xfrm>
              <a:off x="5252760" y="2616120"/>
              <a:ext cx="1465560" cy="846000"/>
            </a:xfrm>
            <a:custGeom>
              <a:avLst/>
              <a:gdLst/>
              <a:ahLst/>
              <a:rect l="l" t="t" r="r" b="b"/>
              <a:pathLst>
                <a:path w="3244" h="1256">
                  <a:moveTo>
                    <a:pt x="192" y="1256"/>
                  </a:moveTo>
                  <a:lnTo>
                    <a:pt x="3052" y="1256"/>
                  </a:lnTo>
                  <a:cubicBezTo>
                    <a:pt x="3158" y="1256"/>
                    <a:pt x="3244" y="1170"/>
                    <a:pt x="3244" y="1064"/>
                  </a:cubicBezTo>
                  <a:cubicBezTo>
                    <a:pt x="3244" y="1064"/>
                    <a:pt x="3244" y="1064"/>
                    <a:pt x="3244" y="1064"/>
                  </a:cubicBezTo>
                  <a:lnTo>
                    <a:pt x="3244" y="1064"/>
                  </a:lnTo>
                  <a:lnTo>
                    <a:pt x="3244" y="192"/>
                  </a:lnTo>
                  <a:cubicBezTo>
                    <a:pt x="3244" y="86"/>
                    <a:pt x="3158" y="0"/>
                    <a:pt x="3052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44800" y="2663640"/>
              <a:ext cx="83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OE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38520" y="2950920"/>
              <a:ext cx="1582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in charge of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92560" y="3087360"/>
              <a:ext cx="18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energy poli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79280" y="2565360"/>
            <a:ext cx="1152720" cy="792360"/>
          </a:xfrm>
          <a:custGeom>
            <a:avLst/>
            <a:gdLst/>
            <a:ahLst/>
            <a:rect l="l" t="t" r="r" b="b"/>
            <a:pathLst>
              <a:path w="2930" h="1256">
                <a:moveTo>
                  <a:pt x="192" y="1256"/>
                </a:moveTo>
                <a:lnTo>
                  <a:pt x="2738" y="1256"/>
                </a:lnTo>
                <a:cubicBezTo>
                  <a:pt x="2844" y="1256"/>
                  <a:pt x="2930" y="1170"/>
                  <a:pt x="2930" y="1064"/>
                </a:cubicBezTo>
                <a:cubicBezTo>
                  <a:pt x="2930" y="1064"/>
                  <a:pt x="2930" y="1064"/>
                  <a:pt x="2930" y="1064"/>
                </a:cubicBezTo>
                <a:lnTo>
                  <a:pt x="2930" y="1064"/>
                </a:lnTo>
                <a:lnTo>
                  <a:pt x="2930" y="192"/>
                </a:lnTo>
                <a:cubicBezTo>
                  <a:pt x="2930" y="86"/>
                  <a:pt x="2844" y="0"/>
                  <a:pt x="2738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064"/>
                </a:lnTo>
                <a:cubicBezTo>
                  <a:pt x="0" y="1170"/>
                  <a:pt x="86" y="1256"/>
                  <a:pt x="192" y="12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760" y="267984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O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2000" y="2940120"/>
            <a:ext cx="102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IA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236000" y="3789360"/>
            <a:ext cx="792000" cy="431640"/>
            <a:chOff x="7236000" y="3789360"/>
            <a:chExt cx="792000" cy="431640"/>
          </a:xfrm>
        </p:grpSpPr>
        <p:sp>
          <p:nvSpPr>
            <p:cNvPr id="306" name=""/>
            <p:cNvSpPr/>
            <p:nvPr/>
          </p:nvSpPr>
          <p:spPr>
            <a:xfrm>
              <a:off x="7236000" y="3789360"/>
              <a:ext cx="792000" cy="431640"/>
            </a:xfrm>
            <a:custGeom>
              <a:avLst/>
              <a:gdLst/>
              <a:ahLst/>
              <a:rect l="l" t="t" r="r" b="b"/>
              <a:pathLst>
                <a:path w="2930" h="1256">
                  <a:moveTo>
                    <a:pt x="192" y="1256"/>
                  </a:moveTo>
                  <a:lnTo>
                    <a:pt x="2738" y="1256"/>
                  </a:lnTo>
                  <a:cubicBezTo>
                    <a:pt x="2844" y="1256"/>
                    <a:pt x="2930" y="1170"/>
                    <a:pt x="2930" y="1064"/>
                  </a:cubicBezTo>
                  <a:cubicBezTo>
                    <a:pt x="2930" y="1064"/>
                    <a:pt x="2930" y="1064"/>
                    <a:pt x="2930" y="1064"/>
                  </a:cubicBezTo>
                  <a:lnTo>
                    <a:pt x="2930" y="1064"/>
                  </a:lnTo>
                  <a:lnTo>
                    <a:pt x="2930" y="192"/>
                  </a:lnTo>
                  <a:cubicBezTo>
                    <a:pt x="2930" y="86"/>
                    <a:pt x="2844" y="0"/>
                    <a:pt x="273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32840" y="3862440"/>
              <a:ext cx="63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TH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164360" y="5516640"/>
            <a:ext cx="1690560" cy="503280"/>
            <a:chOff x="7164360" y="5516640"/>
            <a:chExt cx="1690560" cy="503280"/>
          </a:xfrm>
        </p:grpSpPr>
        <p:sp>
          <p:nvSpPr>
            <p:cNvPr id="309" name=""/>
            <p:cNvSpPr/>
            <p:nvPr/>
          </p:nvSpPr>
          <p:spPr>
            <a:xfrm>
              <a:off x="7164360" y="5516640"/>
              <a:ext cx="1690560" cy="503280"/>
            </a:xfrm>
            <a:custGeom>
              <a:avLst/>
              <a:gdLst/>
              <a:ahLst/>
              <a:rect l="l" t="t" r="r" b="b"/>
              <a:pathLst>
                <a:path w="2930" h="1256">
                  <a:moveTo>
                    <a:pt x="192" y="1256"/>
                  </a:moveTo>
                  <a:lnTo>
                    <a:pt x="2738" y="1256"/>
                  </a:lnTo>
                  <a:cubicBezTo>
                    <a:pt x="2844" y="1256"/>
                    <a:pt x="2930" y="1170"/>
                    <a:pt x="2930" y="1064"/>
                  </a:cubicBezTo>
                  <a:cubicBezTo>
                    <a:pt x="2930" y="1064"/>
                    <a:pt x="2930" y="1064"/>
                    <a:pt x="2930" y="1064"/>
                  </a:cubicBezTo>
                  <a:lnTo>
                    <a:pt x="2930" y="1064"/>
                  </a:lnTo>
                  <a:lnTo>
                    <a:pt x="2930" y="192"/>
                  </a:lnTo>
                  <a:cubicBezTo>
                    <a:pt x="2930" y="86"/>
                    <a:pt x="2844" y="0"/>
                    <a:pt x="273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30560" y="5527800"/>
              <a:ext cx="64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94240" y="5743800"/>
              <a:ext cx="1477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arch rea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850160" y="2616120"/>
            <a:ext cx="1160280" cy="513000"/>
            <a:chOff x="7850160" y="2616120"/>
            <a:chExt cx="1160280" cy="513000"/>
          </a:xfrm>
        </p:grpSpPr>
        <p:sp>
          <p:nvSpPr>
            <p:cNvPr id="313" name=""/>
            <p:cNvSpPr/>
            <p:nvPr/>
          </p:nvSpPr>
          <p:spPr>
            <a:xfrm>
              <a:off x="7850160" y="261612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21440" y="268776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02440" y="276876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oth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877000" y="3833640"/>
            <a:ext cx="944640" cy="360360"/>
          </a:xfrm>
          <a:custGeom>
            <a:avLst/>
            <a:gdLst/>
            <a:ahLst/>
            <a:rect l="l" t="t" r="r" b="b"/>
            <a:pathLst>
              <a:path w="3244" h="1256">
                <a:moveTo>
                  <a:pt x="192" y="1256"/>
                </a:moveTo>
                <a:lnTo>
                  <a:pt x="3052" y="1256"/>
                </a:lnTo>
                <a:cubicBezTo>
                  <a:pt x="3158" y="1256"/>
                  <a:pt x="3244" y="1170"/>
                  <a:pt x="3244" y="1064"/>
                </a:cubicBezTo>
                <a:cubicBezTo>
                  <a:pt x="3244" y="1064"/>
                  <a:pt x="3244" y="1064"/>
                  <a:pt x="3244" y="1064"/>
                </a:cubicBezTo>
                <a:lnTo>
                  <a:pt x="3244" y="1064"/>
                </a:lnTo>
                <a:lnTo>
                  <a:pt x="3244" y="192"/>
                </a:lnTo>
                <a:cubicBezTo>
                  <a:pt x="3244" y="86"/>
                  <a:pt x="3158" y="0"/>
                  <a:pt x="3052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064"/>
                </a:lnTo>
                <a:cubicBezTo>
                  <a:pt x="0" y="1170"/>
                  <a:pt x="86" y="1256"/>
                  <a:pt x="192" y="12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967360" y="387828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35280" y="4797360"/>
            <a:ext cx="1015920" cy="243720"/>
          </a:xfrm>
          <a:prstGeom prst="rect">
            <a:avLst/>
          </a:prstGeom>
          <a:solidFill>
            <a:srgbClr val="feb8c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C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656160" y="3860640"/>
            <a:ext cx="915840" cy="746280"/>
            <a:chOff x="3656160" y="3860640"/>
            <a:chExt cx="915840" cy="746280"/>
          </a:xfrm>
        </p:grpSpPr>
        <p:sp>
          <p:nvSpPr>
            <p:cNvPr id="320" name=""/>
            <p:cNvSpPr/>
            <p:nvPr/>
          </p:nvSpPr>
          <p:spPr>
            <a:xfrm>
              <a:off x="3656160" y="3860640"/>
              <a:ext cx="915840" cy="746280"/>
            </a:xfrm>
            <a:custGeom>
              <a:avLst/>
              <a:gdLst/>
              <a:ahLst/>
              <a:rect l="l" t="t" r="r" b="b"/>
              <a:pathLst>
                <a:path w="3000" h="1535">
                  <a:moveTo>
                    <a:pt x="192" y="1535"/>
                  </a:moveTo>
                  <a:lnTo>
                    <a:pt x="2808" y="1535"/>
                  </a:lnTo>
                  <a:cubicBezTo>
                    <a:pt x="2914" y="1535"/>
                    <a:pt x="3000" y="1449"/>
                    <a:pt x="3000" y="1343"/>
                  </a:cubicBezTo>
                  <a:cubicBezTo>
                    <a:pt x="3000" y="1343"/>
                    <a:pt x="3000" y="1343"/>
                    <a:pt x="3000" y="1343"/>
                  </a:cubicBezTo>
                  <a:lnTo>
                    <a:pt x="3000" y="1343"/>
                  </a:lnTo>
                  <a:lnTo>
                    <a:pt x="3000" y="192"/>
                  </a:lnTo>
                  <a:cubicBezTo>
                    <a:pt x="3000" y="86"/>
                    <a:pt x="2914" y="0"/>
                    <a:pt x="280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343"/>
                  </a:lnTo>
                  <a:cubicBezTo>
                    <a:pt x="0" y="1449"/>
                    <a:pt x="86" y="1535"/>
                    <a:pt x="192" y="1535"/>
                  </a:cubicBezTo>
                </a:path>
              </a:pathLst>
            </a:custGeom>
            <a:solidFill>
              <a:srgbClr val="cbfeff"/>
            </a:solidFill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52000" y="3960720"/>
              <a:ext cx="50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52720" y="424656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R&amp;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522080" y="4149720"/>
            <a:ext cx="16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ar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12000" y="4238640"/>
            <a:ext cx="0" cy="13669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157720"/>
            <a:ext cx="0" cy="3589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2276640"/>
            <a:ext cx="0" cy="288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86280" y="2259000"/>
            <a:ext cx="0" cy="28908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12000" y="2276640"/>
            <a:ext cx="0" cy="288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451640" y="2276640"/>
            <a:ext cx="0" cy="288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317080" y="2276640"/>
            <a:ext cx="0" cy="288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40360" y="357336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24720" y="3068640"/>
            <a:ext cx="0" cy="720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885080" y="4221000"/>
            <a:ext cx="0" cy="129564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12000" y="3500280"/>
            <a:ext cx="0" cy="28908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11640" y="2933640"/>
            <a:ext cx="158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 charg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76640" y="309240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 &amp; T devel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51280" y="3833640"/>
            <a:ext cx="944640" cy="360360"/>
          </a:xfrm>
          <a:custGeom>
            <a:avLst/>
            <a:gdLst/>
            <a:ahLst/>
            <a:rect l="l" t="t" r="r" b="b"/>
            <a:pathLst>
              <a:path w="3244" h="1256">
                <a:moveTo>
                  <a:pt x="192" y="1256"/>
                </a:moveTo>
                <a:lnTo>
                  <a:pt x="3052" y="1256"/>
                </a:lnTo>
                <a:cubicBezTo>
                  <a:pt x="3158" y="1256"/>
                  <a:pt x="3244" y="1170"/>
                  <a:pt x="3244" y="1064"/>
                </a:cubicBezTo>
                <a:cubicBezTo>
                  <a:pt x="3244" y="1064"/>
                  <a:pt x="3244" y="1064"/>
                  <a:pt x="3244" y="1064"/>
                </a:cubicBezTo>
                <a:lnTo>
                  <a:pt x="3244" y="1064"/>
                </a:lnTo>
                <a:lnTo>
                  <a:pt x="3244" y="192"/>
                </a:lnTo>
                <a:cubicBezTo>
                  <a:pt x="3244" y="86"/>
                  <a:pt x="3158" y="0"/>
                  <a:pt x="3052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064"/>
                </a:lnTo>
                <a:cubicBezTo>
                  <a:pt x="0" y="1170"/>
                  <a:pt x="86" y="1256"/>
                  <a:pt x="192" y="12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57720" y="356400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85920" y="38782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76640" y="2259000"/>
            <a:ext cx="0" cy="16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22360" y="2303640"/>
            <a:ext cx="0" cy="15919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5D6-1F55-46AC-8DE4-E51C1C80FB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22360" y="692280"/>
            <a:ext cx="8218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New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標楷體"/>
              </a:rPr>
              <a:t>Nuclear Safety Commiss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88000" y="1854360"/>
            <a:ext cx="0" cy="39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74920" y="1565280"/>
            <a:ext cx="288144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hairman &amp;</a:t>
            </a: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ommiss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7000" y="5815080"/>
            <a:ext cx="3040200" cy="539640"/>
          </a:xfrm>
          <a:prstGeom prst="rect">
            <a:avLst/>
          </a:prstGeom>
          <a:solidFill>
            <a:srgbClr val="f4d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ation Monitoring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2270160"/>
            <a:ext cx="324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hief  Executive Secr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32360" y="3151080"/>
            <a:ext cx="1727280" cy="96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uclear Security &amp; Emergency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4920" y="3224160"/>
            <a:ext cx="1368360" cy="70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adiation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62600" y="2276640"/>
            <a:ext cx="3030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dvisory 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826920" y="2852280"/>
            <a:ext cx="71377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948360" y="3151080"/>
            <a:ext cx="2016360" cy="998640"/>
          </a:xfrm>
          <a:prstGeom prst="rect">
            <a:avLst/>
          </a:prstGeom>
          <a:solidFill>
            <a:srgbClr val="feb8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el Cycle &amp; Materials 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64000" y="2460600"/>
            <a:ext cx="22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562720" y="4365720"/>
            <a:ext cx="3149640" cy="11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Civil Service Et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Perso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Accou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04000" y="2852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9600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95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4000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269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00000" y="4221000"/>
            <a:ext cx="36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 Di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Offices + 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Subordinate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47640" y="3213000"/>
            <a:ext cx="1513080" cy="70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uclear 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4360" y="3213000"/>
            <a:ext cx="1332000" cy="70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66640" y="5815080"/>
            <a:ext cx="3759120" cy="539640"/>
          </a:xfrm>
          <a:prstGeom prst="rect">
            <a:avLst/>
          </a:prstGeom>
          <a:solidFill>
            <a:srgbClr val="f4d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clear Regulatory Research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46640" y="5815080"/>
            <a:ext cx="45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762360" y="5815080"/>
            <a:ext cx="228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3BC-2433-417B-A17A-13F877D9739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165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0" y="0"/>
            <a:ext cx="1065240" cy="907920"/>
          </a:xfrm>
          <a:custGeom>
            <a:avLst/>
            <a:gdLst/>
            <a:ahLst/>
            <a:rect l="l" t="t" r="r" b="b"/>
            <a:pathLst>
              <a:path w="2148" h="1806">
                <a:moveTo>
                  <a:pt x="464" y="1806"/>
                </a:moveTo>
                <a:lnTo>
                  <a:pt x="483" y="1804"/>
                </a:lnTo>
                <a:lnTo>
                  <a:pt x="502" y="1800"/>
                </a:lnTo>
                <a:lnTo>
                  <a:pt x="519" y="1795"/>
                </a:lnTo>
                <a:lnTo>
                  <a:pt x="536" y="1787"/>
                </a:lnTo>
                <a:lnTo>
                  <a:pt x="554" y="1779"/>
                </a:lnTo>
                <a:lnTo>
                  <a:pt x="569" y="1768"/>
                </a:lnTo>
                <a:lnTo>
                  <a:pt x="584" y="1758"/>
                </a:lnTo>
                <a:lnTo>
                  <a:pt x="599" y="1745"/>
                </a:lnTo>
                <a:lnTo>
                  <a:pt x="615" y="1734"/>
                </a:lnTo>
                <a:lnTo>
                  <a:pt x="628" y="1718"/>
                </a:lnTo>
                <a:lnTo>
                  <a:pt x="643" y="1705"/>
                </a:lnTo>
                <a:lnTo>
                  <a:pt x="657" y="1692"/>
                </a:lnTo>
                <a:lnTo>
                  <a:pt x="672" y="1676"/>
                </a:lnTo>
                <a:lnTo>
                  <a:pt x="687" y="1661"/>
                </a:lnTo>
                <a:lnTo>
                  <a:pt x="703" y="1646"/>
                </a:lnTo>
                <a:lnTo>
                  <a:pt x="718" y="1633"/>
                </a:lnTo>
                <a:lnTo>
                  <a:pt x="729" y="1621"/>
                </a:lnTo>
                <a:lnTo>
                  <a:pt x="739" y="1608"/>
                </a:lnTo>
                <a:lnTo>
                  <a:pt x="750" y="1596"/>
                </a:lnTo>
                <a:lnTo>
                  <a:pt x="760" y="1585"/>
                </a:lnTo>
                <a:lnTo>
                  <a:pt x="768" y="1573"/>
                </a:lnTo>
                <a:lnTo>
                  <a:pt x="777" y="1562"/>
                </a:lnTo>
                <a:lnTo>
                  <a:pt x="787" y="1551"/>
                </a:lnTo>
                <a:lnTo>
                  <a:pt x="794" y="1539"/>
                </a:lnTo>
                <a:lnTo>
                  <a:pt x="810" y="1518"/>
                </a:lnTo>
                <a:lnTo>
                  <a:pt x="823" y="1495"/>
                </a:lnTo>
                <a:lnTo>
                  <a:pt x="836" y="1472"/>
                </a:lnTo>
                <a:lnTo>
                  <a:pt x="852" y="1448"/>
                </a:lnTo>
                <a:lnTo>
                  <a:pt x="865" y="1423"/>
                </a:lnTo>
                <a:lnTo>
                  <a:pt x="876" y="1398"/>
                </a:lnTo>
                <a:lnTo>
                  <a:pt x="890" y="1371"/>
                </a:lnTo>
                <a:lnTo>
                  <a:pt x="899" y="1346"/>
                </a:lnTo>
                <a:lnTo>
                  <a:pt x="911" y="1318"/>
                </a:lnTo>
                <a:lnTo>
                  <a:pt x="920" y="1291"/>
                </a:lnTo>
                <a:lnTo>
                  <a:pt x="928" y="1263"/>
                </a:lnTo>
                <a:lnTo>
                  <a:pt x="936" y="1234"/>
                </a:lnTo>
                <a:lnTo>
                  <a:pt x="941" y="1205"/>
                </a:lnTo>
                <a:lnTo>
                  <a:pt x="945" y="1177"/>
                </a:lnTo>
                <a:lnTo>
                  <a:pt x="947" y="1148"/>
                </a:lnTo>
                <a:lnTo>
                  <a:pt x="947" y="1119"/>
                </a:lnTo>
                <a:lnTo>
                  <a:pt x="962" y="1118"/>
                </a:lnTo>
                <a:lnTo>
                  <a:pt x="976" y="1118"/>
                </a:lnTo>
                <a:lnTo>
                  <a:pt x="991" y="1118"/>
                </a:lnTo>
                <a:lnTo>
                  <a:pt x="1004" y="1118"/>
                </a:lnTo>
                <a:lnTo>
                  <a:pt x="1020" y="1118"/>
                </a:lnTo>
                <a:lnTo>
                  <a:pt x="1035" y="1116"/>
                </a:lnTo>
                <a:lnTo>
                  <a:pt x="1048" y="1116"/>
                </a:lnTo>
                <a:lnTo>
                  <a:pt x="1064" y="1116"/>
                </a:lnTo>
                <a:lnTo>
                  <a:pt x="1077" y="1116"/>
                </a:lnTo>
                <a:lnTo>
                  <a:pt x="1092" y="1116"/>
                </a:lnTo>
                <a:lnTo>
                  <a:pt x="1107" y="1116"/>
                </a:lnTo>
                <a:lnTo>
                  <a:pt x="1123" y="1116"/>
                </a:lnTo>
                <a:lnTo>
                  <a:pt x="1136" y="1114"/>
                </a:lnTo>
                <a:lnTo>
                  <a:pt x="1151" y="1114"/>
                </a:lnTo>
                <a:lnTo>
                  <a:pt x="1167" y="1114"/>
                </a:lnTo>
                <a:lnTo>
                  <a:pt x="1180" y="1114"/>
                </a:lnTo>
                <a:lnTo>
                  <a:pt x="1195" y="1114"/>
                </a:lnTo>
                <a:lnTo>
                  <a:pt x="1211" y="1114"/>
                </a:lnTo>
                <a:lnTo>
                  <a:pt x="1226" y="1112"/>
                </a:lnTo>
                <a:lnTo>
                  <a:pt x="1239" y="1112"/>
                </a:lnTo>
                <a:lnTo>
                  <a:pt x="1255" y="1112"/>
                </a:lnTo>
                <a:lnTo>
                  <a:pt x="1270" y="1110"/>
                </a:lnTo>
                <a:lnTo>
                  <a:pt x="1285" y="1110"/>
                </a:lnTo>
                <a:lnTo>
                  <a:pt x="1300" y="1110"/>
                </a:lnTo>
                <a:lnTo>
                  <a:pt x="1314" y="1108"/>
                </a:lnTo>
                <a:lnTo>
                  <a:pt x="1329" y="1106"/>
                </a:lnTo>
                <a:lnTo>
                  <a:pt x="1344" y="1106"/>
                </a:lnTo>
                <a:lnTo>
                  <a:pt x="1360" y="1104"/>
                </a:lnTo>
                <a:lnTo>
                  <a:pt x="1373" y="1102"/>
                </a:lnTo>
                <a:lnTo>
                  <a:pt x="1388" y="1102"/>
                </a:lnTo>
                <a:lnTo>
                  <a:pt x="1403" y="1100"/>
                </a:lnTo>
                <a:lnTo>
                  <a:pt x="1419" y="1098"/>
                </a:lnTo>
                <a:lnTo>
                  <a:pt x="1419" y="1097"/>
                </a:lnTo>
                <a:lnTo>
                  <a:pt x="1417" y="1093"/>
                </a:lnTo>
                <a:lnTo>
                  <a:pt x="1417" y="1091"/>
                </a:lnTo>
                <a:lnTo>
                  <a:pt x="1415" y="1089"/>
                </a:lnTo>
                <a:lnTo>
                  <a:pt x="1392" y="1089"/>
                </a:lnTo>
                <a:lnTo>
                  <a:pt x="1371" y="1091"/>
                </a:lnTo>
                <a:lnTo>
                  <a:pt x="1348" y="1093"/>
                </a:lnTo>
                <a:lnTo>
                  <a:pt x="1325" y="1093"/>
                </a:lnTo>
                <a:lnTo>
                  <a:pt x="1302" y="1095"/>
                </a:lnTo>
                <a:lnTo>
                  <a:pt x="1281" y="1097"/>
                </a:lnTo>
                <a:lnTo>
                  <a:pt x="1258" y="1097"/>
                </a:lnTo>
                <a:lnTo>
                  <a:pt x="1235" y="1097"/>
                </a:lnTo>
                <a:lnTo>
                  <a:pt x="1214" y="1098"/>
                </a:lnTo>
                <a:lnTo>
                  <a:pt x="1191" y="1098"/>
                </a:lnTo>
                <a:lnTo>
                  <a:pt x="1169" y="1098"/>
                </a:lnTo>
                <a:lnTo>
                  <a:pt x="1146" y="1100"/>
                </a:lnTo>
                <a:lnTo>
                  <a:pt x="1125" y="1100"/>
                </a:lnTo>
                <a:lnTo>
                  <a:pt x="1102" y="1100"/>
                </a:lnTo>
                <a:lnTo>
                  <a:pt x="1079" y="1100"/>
                </a:lnTo>
                <a:lnTo>
                  <a:pt x="1056" y="1102"/>
                </a:lnTo>
                <a:lnTo>
                  <a:pt x="1035" y="1102"/>
                </a:lnTo>
                <a:lnTo>
                  <a:pt x="1012" y="1102"/>
                </a:lnTo>
                <a:lnTo>
                  <a:pt x="989" y="1102"/>
                </a:lnTo>
                <a:lnTo>
                  <a:pt x="966" y="1100"/>
                </a:lnTo>
                <a:lnTo>
                  <a:pt x="943" y="1100"/>
                </a:lnTo>
                <a:lnTo>
                  <a:pt x="922" y="1100"/>
                </a:lnTo>
                <a:lnTo>
                  <a:pt x="899" y="1100"/>
                </a:lnTo>
                <a:lnTo>
                  <a:pt x="876" y="1098"/>
                </a:lnTo>
                <a:lnTo>
                  <a:pt x="855" y="1098"/>
                </a:lnTo>
                <a:lnTo>
                  <a:pt x="832" y="1097"/>
                </a:lnTo>
                <a:lnTo>
                  <a:pt x="810" y="1097"/>
                </a:lnTo>
                <a:lnTo>
                  <a:pt x="787" y="1095"/>
                </a:lnTo>
                <a:lnTo>
                  <a:pt x="764" y="1093"/>
                </a:lnTo>
                <a:lnTo>
                  <a:pt x="743" y="1093"/>
                </a:lnTo>
                <a:lnTo>
                  <a:pt x="720" y="1089"/>
                </a:lnTo>
                <a:lnTo>
                  <a:pt x="697" y="1089"/>
                </a:lnTo>
                <a:lnTo>
                  <a:pt x="687" y="1087"/>
                </a:lnTo>
                <a:lnTo>
                  <a:pt x="693" y="1074"/>
                </a:lnTo>
                <a:lnTo>
                  <a:pt x="701" y="1060"/>
                </a:lnTo>
                <a:lnTo>
                  <a:pt x="708" y="1047"/>
                </a:lnTo>
                <a:lnTo>
                  <a:pt x="716" y="1036"/>
                </a:lnTo>
                <a:lnTo>
                  <a:pt x="724" y="1022"/>
                </a:lnTo>
                <a:lnTo>
                  <a:pt x="731" y="1011"/>
                </a:lnTo>
                <a:lnTo>
                  <a:pt x="741" y="997"/>
                </a:lnTo>
                <a:lnTo>
                  <a:pt x="748" y="986"/>
                </a:lnTo>
                <a:lnTo>
                  <a:pt x="758" y="973"/>
                </a:lnTo>
                <a:lnTo>
                  <a:pt x="768" y="961"/>
                </a:lnTo>
                <a:lnTo>
                  <a:pt x="775" y="950"/>
                </a:lnTo>
                <a:lnTo>
                  <a:pt x="785" y="938"/>
                </a:lnTo>
                <a:lnTo>
                  <a:pt x="792" y="925"/>
                </a:lnTo>
                <a:lnTo>
                  <a:pt x="802" y="913"/>
                </a:lnTo>
                <a:lnTo>
                  <a:pt x="810" y="900"/>
                </a:lnTo>
                <a:lnTo>
                  <a:pt x="817" y="889"/>
                </a:lnTo>
                <a:lnTo>
                  <a:pt x="819" y="887"/>
                </a:lnTo>
                <a:lnTo>
                  <a:pt x="821" y="887"/>
                </a:lnTo>
                <a:lnTo>
                  <a:pt x="821" y="887"/>
                </a:lnTo>
                <a:lnTo>
                  <a:pt x="821" y="887"/>
                </a:lnTo>
                <a:lnTo>
                  <a:pt x="836" y="894"/>
                </a:lnTo>
                <a:lnTo>
                  <a:pt x="850" y="904"/>
                </a:lnTo>
                <a:lnTo>
                  <a:pt x="861" y="915"/>
                </a:lnTo>
                <a:lnTo>
                  <a:pt x="873" y="927"/>
                </a:lnTo>
                <a:lnTo>
                  <a:pt x="884" y="940"/>
                </a:lnTo>
                <a:lnTo>
                  <a:pt x="894" y="955"/>
                </a:lnTo>
                <a:lnTo>
                  <a:pt x="901" y="969"/>
                </a:lnTo>
                <a:lnTo>
                  <a:pt x="911" y="984"/>
                </a:lnTo>
                <a:lnTo>
                  <a:pt x="915" y="992"/>
                </a:lnTo>
                <a:lnTo>
                  <a:pt x="918" y="1001"/>
                </a:lnTo>
                <a:lnTo>
                  <a:pt x="922" y="1011"/>
                </a:lnTo>
                <a:lnTo>
                  <a:pt x="926" y="1020"/>
                </a:lnTo>
                <a:lnTo>
                  <a:pt x="928" y="1030"/>
                </a:lnTo>
                <a:lnTo>
                  <a:pt x="932" y="1039"/>
                </a:lnTo>
                <a:lnTo>
                  <a:pt x="934" y="1049"/>
                </a:lnTo>
                <a:lnTo>
                  <a:pt x="936" y="1058"/>
                </a:lnTo>
                <a:lnTo>
                  <a:pt x="937" y="1049"/>
                </a:lnTo>
                <a:lnTo>
                  <a:pt x="936" y="1037"/>
                </a:lnTo>
                <a:lnTo>
                  <a:pt x="934" y="1026"/>
                </a:lnTo>
                <a:lnTo>
                  <a:pt x="932" y="1013"/>
                </a:lnTo>
                <a:lnTo>
                  <a:pt x="928" y="997"/>
                </a:lnTo>
                <a:lnTo>
                  <a:pt x="922" y="984"/>
                </a:lnTo>
                <a:lnTo>
                  <a:pt x="915" y="969"/>
                </a:lnTo>
                <a:lnTo>
                  <a:pt x="909" y="955"/>
                </a:lnTo>
                <a:lnTo>
                  <a:pt x="901" y="942"/>
                </a:lnTo>
                <a:lnTo>
                  <a:pt x="894" y="929"/>
                </a:lnTo>
                <a:lnTo>
                  <a:pt x="884" y="917"/>
                </a:lnTo>
                <a:lnTo>
                  <a:pt x="874" y="906"/>
                </a:lnTo>
                <a:lnTo>
                  <a:pt x="863" y="894"/>
                </a:lnTo>
                <a:lnTo>
                  <a:pt x="853" y="885"/>
                </a:lnTo>
                <a:lnTo>
                  <a:pt x="842" y="873"/>
                </a:lnTo>
                <a:lnTo>
                  <a:pt x="831" y="866"/>
                </a:lnTo>
                <a:lnTo>
                  <a:pt x="819" y="856"/>
                </a:lnTo>
                <a:lnTo>
                  <a:pt x="806" y="849"/>
                </a:lnTo>
                <a:lnTo>
                  <a:pt x="794" y="839"/>
                </a:lnTo>
                <a:lnTo>
                  <a:pt x="781" y="833"/>
                </a:lnTo>
                <a:lnTo>
                  <a:pt x="773" y="828"/>
                </a:lnTo>
                <a:lnTo>
                  <a:pt x="766" y="826"/>
                </a:lnTo>
                <a:lnTo>
                  <a:pt x="758" y="822"/>
                </a:lnTo>
                <a:lnTo>
                  <a:pt x="748" y="818"/>
                </a:lnTo>
                <a:lnTo>
                  <a:pt x="741" y="816"/>
                </a:lnTo>
                <a:lnTo>
                  <a:pt x="731" y="814"/>
                </a:lnTo>
                <a:lnTo>
                  <a:pt x="722" y="812"/>
                </a:lnTo>
                <a:lnTo>
                  <a:pt x="714" y="809"/>
                </a:lnTo>
                <a:lnTo>
                  <a:pt x="705" y="809"/>
                </a:lnTo>
                <a:lnTo>
                  <a:pt x="697" y="807"/>
                </a:lnTo>
                <a:lnTo>
                  <a:pt x="689" y="805"/>
                </a:lnTo>
                <a:lnTo>
                  <a:pt x="680" y="803"/>
                </a:lnTo>
                <a:lnTo>
                  <a:pt x="672" y="801"/>
                </a:lnTo>
                <a:lnTo>
                  <a:pt x="662" y="801"/>
                </a:lnTo>
                <a:lnTo>
                  <a:pt x="655" y="801"/>
                </a:lnTo>
                <a:lnTo>
                  <a:pt x="645" y="801"/>
                </a:lnTo>
                <a:lnTo>
                  <a:pt x="645" y="801"/>
                </a:lnTo>
                <a:lnTo>
                  <a:pt x="643" y="799"/>
                </a:lnTo>
                <a:lnTo>
                  <a:pt x="641" y="799"/>
                </a:lnTo>
                <a:lnTo>
                  <a:pt x="641" y="797"/>
                </a:lnTo>
                <a:lnTo>
                  <a:pt x="645" y="788"/>
                </a:lnTo>
                <a:lnTo>
                  <a:pt x="649" y="780"/>
                </a:lnTo>
                <a:lnTo>
                  <a:pt x="653" y="772"/>
                </a:lnTo>
                <a:lnTo>
                  <a:pt x="657" y="763"/>
                </a:lnTo>
                <a:lnTo>
                  <a:pt x="662" y="757"/>
                </a:lnTo>
                <a:lnTo>
                  <a:pt x="668" y="749"/>
                </a:lnTo>
                <a:lnTo>
                  <a:pt x="674" y="744"/>
                </a:lnTo>
                <a:lnTo>
                  <a:pt x="680" y="736"/>
                </a:lnTo>
                <a:lnTo>
                  <a:pt x="685" y="730"/>
                </a:lnTo>
                <a:lnTo>
                  <a:pt x="693" y="725"/>
                </a:lnTo>
                <a:lnTo>
                  <a:pt x="701" y="719"/>
                </a:lnTo>
                <a:lnTo>
                  <a:pt x="708" y="715"/>
                </a:lnTo>
                <a:lnTo>
                  <a:pt x="716" y="711"/>
                </a:lnTo>
                <a:lnTo>
                  <a:pt x="724" y="706"/>
                </a:lnTo>
                <a:lnTo>
                  <a:pt x="733" y="702"/>
                </a:lnTo>
                <a:lnTo>
                  <a:pt x="741" y="700"/>
                </a:lnTo>
                <a:lnTo>
                  <a:pt x="750" y="696"/>
                </a:lnTo>
                <a:lnTo>
                  <a:pt x="760" y="694"/>
                </a:lnTo>
                <a:lnTo>
                  <a:pt x="769" y="692"/>
                </a:lnTo>
                <a:lnTo>
                  <a:pt x="779" y="690"/>
                </a:lnTo>
                <a:lnTo>
                  <a:pt x="789" y="690"/>
                </a:lnTo>
                <a:lnTo>
                  <a:pt x="798" y="690"/>
                </a:lnTo>
                <a:lnTo>
                  <a:pt x="806" y="690"/>
                </a:lnTo>
                <a:lnTo>
                  <a:pt x="817" y="692"/>
                </a:lnTo>
                <a:lnTo>
                  <a:pt x="825" y="692"/>
                </a:lnTo>
                <a:lnTo>
                  <a:pt x="834" y="694"/>
                </a:lnTo>
                <a:lnTo>
                  <a:pt x="844" y="696"/>
                </a:lnTo>
                <a:lnTo>
                  <a:pt x="853" y="698"/>
                </a:lnTo>
                <a:lnTo>
                  <a:pt x="863" y="702"/>
                </a:lnTo>
                <a:lnTo>
                  <a:pt x="873" y="704"/>
                </a:lnTo>
                <a:lnTo>
                  <a:pt x="880" y="706"/>
                </a:lnTo>
                <a:lnTo>
                  <a:pt x="890" y="709"/>
                </a:lnTo>
                <a:lnTo>
                  <a:pt x="903" y="715"/>
                </a:lnTo>
                <a:lnTo>
                  <a:pt x="916" y="723"/>
                </a:lnTo>
                <a:lnTo>
                  <a:pt x="930" y="730"/>
                </a:lnTo>
                <a:lnTo>
                  <a:pt x="941" y="738"/>
                </a:lnTo>
                <a:lnTo>
                  <a:pt x="953" y="746"/>
                </a:lnTo>
                <a:lnTo>
                  <a:pt x="964" y="753"/>
                </a:lnTo>
                <a:lnTo>
                  <a:pt x="978" y="761"/>
                </a:lnTo>
                <a:lnTo>
                  <a:pt x="989" y="770"/>
                </a:lnTo>
                <a:lnTo>
                  <a:pt x="1001" y="778"/>
                </a:lnTo>
                <a:lnTo>
                  <a:pt x="1012" y="786"/>
                </a:lnTo>
                <a:lnTo>
                  <a:pt x="1023" y="793"/>
                </a:lnTo>
                <a:lnTo>
                  <a:pt x="1035" y="801"/>
                </a:lnTo>
                <a:lnTo>
                  <a:pt x="1048" y="809"/>
                </a:lnTo>
                <a:lnTo>
                  <a:pt x="1060" y="814"/>
                </a:lnTo>
                <a:lnTo>
                  <a:pt x="1073" y="822"/>
                </a:lnTo>
                <a:lnTo>
                  <a:pt x="1086" y="828"/>
                </a:lnTo>
                <a:lnTo>
                  <a:pt x="1096" y="830"/>
                </a:lnTo>
                <a:lnTo>
                  <a:pt x="1107" y="833"/>
                </a:lnTo>
                <a:lnTo>
                  <a:pt x="1117" y="835"/>
                </a:lnTo>
                <a:lnTo>
                  <a:pt x="1127" y="837"/>
                </a:lnTo>
                <a:lnTo>
                  <a:pt x="1136" y="839"/>
                </a:lnTo>
                <a:lnTo>
                  <a:pt x="1146" y="839"/>
                </a:lnTo>
                <a:lnTo>
                  <a:pt x="1155" y="839"/>
                </a:lnTo>
                <a:lnTo>
                  <a:pt x="1167" y="839"/>
                </a:lnTo>
                <a:lnTo>
                  <a:pt x="1176" y="839"/>
                </a:lnTo>
                <a:lnTo>
                  <a:pt x="1186" y="837"/>
                </a:lnTo>
                <a:lnTo>
                  <a:pt x="1195" y="837"/>
                </a:lnTo>
                <a:lnTo>
                  <a:pt x="1205" y="835"/>
                </a:lnTo>
                <a:lnTo>
                  <a:pt x="1214" y="831"/>
                </a:lnTo>
                <a:lnTo>
                  <a:pt x="1224" y="830"/>
                </a:lnTo>
                <a:lnTo>
                  <a:pt x="1234" y="826"/>
                </a:lnTo>
                <a:lnTo>
                  <a:pt x="1243" y="822"/>
                </a:lnTo>
                <a:lnTo>
                  <a:pt x="1247" y="820"/>
                </a:lnTo>
                <a:lnTo>
                  <a:pt x="1251" y="818"/>
                </a:lnTo>
                <a:lnTo>
                  <a:pt x="1255" y="816"/>
                </a:lnTo>
                <a:lnTo>
                  <a:pt x="1258" y="814"/>
                </a:lnTo>
                <a:lnTo>
                  <a:pt x="1264" y="812"/>
                </a:lnTo>
                <a:lnTo>
                  <a:pt x="1268" y="810"/>
                </a:lnTo>
                <a:lnTo>
                  <a:pt x="1272" y="809"/>
                </a:lnTo>
                <a:lnTo>
                  <a:pt x="1277" y="807"/>
                </a:lnTo>
                <a:lnTo>
                  <a:pt x="1287" y="797"/>
                </a:lnTo>
                <a:lnTo>
                  <a:pt x="1298" y="788"/>
                </a:lnTo>
                <a:lnTo>
                  <a:pt x="1310" y="780"/>
                </a:lnTo>
                <a:lnTo>
                  <a:pt x="1321" y="770"/>
                </a:lnTo>
                <a:lnTo>
                  <a:pt x="1333" y="763"/>
                </a:lnTo>
                <a:lnTo>
                  <a:pt x="1344" y="753"/>
                </a:lnTo>
                <a:lnTo>
                  <a:pt x="1358" y="744"/>
                </a:lnTo>
                <a:lnTo>
                  <a:pt x="1367" y="732"/>
                </a:lnTo>
                <a:lnTo>
                  <a:pt x="1367" y="730"/>
                </a:lnTo>
                <a:lnTo>
                  <a:pt x="1367" y="730"/>
                </a:lnTo>
                <a:lnTo>
                  <a:pt x="1367" y="728"/>
                </a:lnTo>
                <a:lnTo>
                  <a:pt x="1367" y="728"/>
                </a:lnTo>
                <a:lnTo>
                  <a:pt x="1365" y="728"/>
                </a:lnTo>
                <a:lnTo>
                  <a:pt x="1363" y="728"/>
                </a:lnTo>
                <a:lnTo>
                  <a:pt x="1363" y="728"/>
                </a:lnTo>
                <a:lnTo>
                  <a:pt x="1361" y="728"/>
                </a:lnTo>
                <a:lnTo>
                  <a:pt x="1354" y="732"/>
                </a:lnTo>
                <a:lnTo>
                  <a:pt x="1350" y="738"/>
                </a:lnTo>
                <a:lnTo>
                  <a:pt x="1342" y="744"/>
                </a:lnTo>
                <a:lnTo>
                  <a:pt x="1337" y="748"/>
                </a:lnTo>
                <a:lnTo>
                  <a:pt x="1331" y="753"/>
                </a:lnTo>
                <a:lnTo>
                  <a:pt x="1325" y="757"/>
                </a:lnTo>
                <a:lnTo>
                  <a:pt x="1319" y="761"/>
                </a:lnTo>
                <a:lnTo>
                  <a:pt x="1314" y="765"/>
                </a:lnTo>
                <a:lnTo>
                  <a:pt x="1306" y="770"/>
                </a:lnTo>
                <a:lnTo>
                  <a:pt x="1302" y="774"/>
                </a:lnTo>
                <a:lnTo>
                  <a:pt x="1295" y="778"/>
                </a:lnTo>
                <a:lnTo>
                  <a:pt x="1289" y="782"/>
                </a:lnTo>
                <a:lnTo>
                  <a:pt x="1283" y="786"/>
                </a:lnTo>
                <a:lnTo>
                  <a:pt x="1277" y="790"/>
                </a:lnTo>
                <a:lnTo>
                  <a:pt x="1270" y="793"/>
                </a:lnTo>
                <a:lnTo>
                  <a:pt x="1264" y="797"/>
                </a:lnTo>
                <a:lnTo>
                  <a:pt x="1253" y="788"/>
                </a:lnTo>
                <a:lnTo>
                  <a:pt x="1243" y="776"/>
                </a:lnTo>
                <a:lnTo>
                  <a:pt x="1234" y="765"/>
                </a:lnTo>
                <a:lnTo>
                  <a:pt x="1224" y="751"/>
                </a:lnTo>
                <a:lnTo>
                  <a:pt x="1216" y="740"/>
                </a:lnTo>
                <a:lnTo>
                  <a:pt x="1207" y="727"/>
                </a:lnTo>
                <a:lnTo>
                  <a:pt x="1197" y="715"/>
                </a:lnTo>
                <a:lnTo>
                  <a:pt x="1188" y="704"/>
                </a:lnTo>
                <a:lnTo>
                  <a:pt x="1186" y="700"/>
                </a:lnTo>
                <a:lnTo>
                  <a:pt x="1184" y="698"/>
                </a:lnTo>
                <a:lnTo>
                  <a:pt x="1184" y="696"/>
                </a:lnTo>
                <a:lnTo>
                  <a:pt x="1184" y="694"/>
                </a:lnTo>
                <a:lnTo>
                  <a:pt x="1184" y="692"/>
                </a:lnTo>
                <a:lnTo>
                  <a:pt x="1184" y="690"/>
                </a:lnTo>
                <a:lnTo>
                  <a:pt x="1184" y="690"/>
                </a:lnTo>
                <a:lnTo>
                  <a:pt x="1184" y="690"/>
                </a:lnTo>
                <a:lnTo>
                  <a:pt x="1371" y="694"/>
                </a:lnTo>
                <a:lnTo>
                  <a:pt x="1386" y="696"/>
                </a:lnTo>
                <a:lnTo>
                  <a:pt x="1403" y="696"/>
                </a:lnTo>
                <a:lnTo>
                  <a:pt x="1419" y="698"/>
                </a:lnTo>
                <a:lnTo>
                  <a:pt x="1436" y="698"/>
                </a:lnTo>
                <a:lnTo>
                  <a:pt x="1451" y="698"/>
                </a:lnTo>
                <a:lnTo>
                  <a:pt x="1468" y="700"/>
                </a:lnTo>
                <a:lnTo>
                  <a:pt x="1484" y="702"/>
                </a:lnTo>
                <a:lnTo>
                  <a:pt x="1501" y="702"/>
                </a:lnTo>
                <a:lnTo>
                  <a:pt x="1516" y="704"/>
                </a:lnTo>
                <a:lnTo>
                  <a:pt x="1531" y="704"/>
                </a:lnTo>
                <a:lnTo>
                  <a:pt x="1549" y="706"/>
                </a:lnTo>
                <a:lnTo>
                  <a:pt x="1564" y="708"/>
                </a:lnTo>
                <a:lnTo>
                  <a:pt x="1581" y="709"/>
                </a:lnTo>
                <a:lnTo>
                  <a:pt x="1596" y="711"/>
                </a:lnTo>
                <a:lnTo>
                  <a:pt x="1612" y="713"/>
                </a:lnTo>
                <a:lnTo>
                  <a:pt x="1629" y="715"/>
                </a:lnTo>
                <a:lnTo>
                  <a:pt x="1644" y="717"/>
                </a:lnTo>
                <a:lnTo>
                  <a:pt x="1657" y="719"/>
                </a:lnTo>
                <a:lnTo>
                  <a:pt x="1675" y="721"/>
                </a:lnTo>
                <a:lnTo>
                  <a:pt x="1690" y="723"/>
                </a:lnTo>
                <a:lnTo>
                  <a:pt x="1705" y="725"/>
                </a:lnTo>
                <a:lnTo>
                  <a:pt x="1720" y="728"/>
                </a:lnTo>
                <a:lnTo>
                  <a:pt x="1736" y="728"/>
                </a:lnTo>
                <a:lnTo>
                  <a:pt x="1753" y="732"/>
                </a:lnTo>
                <a:lnTo>
                  <a:pt x="1768" y="734"/>
                </a:lnTo>
                <a:lnTo>
                  <a:pt x="1784" y="736"/>
                </a:lnTo>
                <a:lnTo>
                  <a:pt x="1801" y="738"/>
                </a:lnTo>
                <a:lnTo>
                  <a:pt x="1816" y="742"/>
                </a:lnTo>
                <a:lnTo>
                  <a:pt x="1831" y="744"/>
                </a:lnTo>
                <a:lnTo>
                  <a:pt x="1848" y="748"/>
                </a:lnTo>
                <a:lnTo>
                  <a:pt x="1864" y="749"/>
                </a:lnTo>
                <a:lnTo>
                  <a:pt x="1879" y="753"/>
                </a:lnTo>
                <a:lnTo>
                  <a:pt x="1894" y="757"/>
                </a:lnTo>
                <a:lnTo>
                  <a:pt x="1910" y="761"/>
                </a:lnTo>
                <a:lnTo>
                  <a:pt x="1927" y="765"/>
                </a:lnTo>
                <a:lnTo>
                  <a:pt x="1942" y="769"/>
                </a:lnTo>
                <a:lnTo>
                  <a:pt x="1955" y="774"/>
                </a:lnTo>
                <a:lnTo>
                  <a:pt x="1971" y="778"/>
                </a:lnTo>
                <a:lnTo>
                  <a:pt x="1986" y="784"/>
                </a:lnTo>
                <a:lnTo>
                  <a:pt x="1999" y="790"/>
                </a:lnTo>
                <a:lnTo>
                  <a:pt x="2015" y="797"/>
                </a:lnTo>
                <a:lnTo>
                  <a:pt x="2028" y="803"/>
                </a:lnTo>
                <a:lnTo>
                  <a:pt x="2041" y="810"/>
                </a:lnTo>
                <a:lnTo>
                  <a:pt x="2055" y="818"/>
                </a:lnTo>
                <a:lnTo>
                  <a:pt x="2068" y="826"/>
                </a:lnTo>
                <a:lnTo>
                  <a:pt x="2080" y="833"/>
                </a:lnTo>
                <a:lnTo>
                  <a:pt x="2093" y="843"/>
                </a:lnTo>
                <a:lnTo>
                  <a:pt x="2104" y="852"/>
                </a:lnTo>
                <a:lnTo>
                  <a:pt x="2108" y="862"/>
                </a:lnTo>
                <a:lnTo>
                  <a:pt x="2110" y="870"/>
                </a:lnTo>
                <a:lnTo>
                  <a:pt x="2110" y="879"/>
                </a:lnTo>
                <a:lnTo>
                  <a:pt x="2110" y="889"/>
                </a:lnTo>
                <a:lnTo>
                  <a:pt x="2101" y="902"/>
                </a:lnTo>
                <a:lnTo>
                  <a:pt x="2089" y="913"/>
                </a:lnTo>
                <a:lnTo>
                  <a:pt x="2076" y="925"/>
                </a:lnTo>
                <a:lnTo>
                  <a:pt x="2062" y="933"/>
                </a:lnTo>
                <a:lnTo>
                  <a:pt x="2049" y="942"/>
                </a:lnTo>
                <a:lnTo>
                  <a:pt x="2034" y="950"/>
                </a:lnTo>
                <a:lnTo>
                  <a:pt x="2016" y="955"/>
                </a:lnTo>
                <a:lnTo>
                  <a:pt x="2001" y="963"/>
                </a:lnTo>
                <a:lnTo>
                  <a:pt x="1984" y="969"/>
                </a:lnTo>
                <a:lnTo>
                  <a:pt x="1969" y="973"/>
                </a:lnTo>
                <a:lnTo>
                  <a:pt x="1950" y="980"/>
                </a:lnTo>
                <a:lnTo>
                  <a:pt x="1932" y="984"/>
                </a:lnTo>
                <a:lnTo>
                  <a:pt x="1915" y="990"/>
                </a:lnTo>
                <a:lnTo>
                  <a:pt x="1898" y="996"/>
                </a:lnTo>
                <a:lnTo>
                  <a:pt x="1883" y="1001"/>
                </a:lnTo>
                <a:lnTo>
                  <a:pt x="1868" y="1009"/>
                </a:lnTo>
                <a:lnTo>
                  <a:pt x="1854" y="1013"/>
                </a:lnTo>
                <a:lnTo>
                  <a:pt x="1841" y="1015"/>
                </a:lnTo>
                <a:lnTo>
                  <a:pt x="1829" y="1018"/>
                </a:lnTo>
                <a:lnTo>
                  <a:pt x="1816" y="1020"/>
                </a:lnTo>
                <a:lnTo>
                  <a:pt x="1805" y="1024"/>
                </a:lnTo>
                <a:lnTo>
                  <a:pt x="1791" y="1028"/>
                </a:lnTo>
                <a:lnTo>
                  <a:pt x="1780" y="1030"/>
                </a:lnTo>
                <a:lnTo>
                  <a:pt x="1766" y="1032"/>
                </a:lnTo>
                <a:lnTo>
                  <a:pt x="1755" y="1036"/>
                </a:lnTo>
                <a:lnTo>
                  <a:pt x="1741" y="1037"/>
                </a:lnTo>
                <a:lnTo>
                  <a:pt x="1730" y="1041"/>
                </a:lnTo>
                <a:lnTo>
                  <a:pt x="1717" y="1043"/>
                </a:lnTo>
                <a:lnTo>
                  <a:pt x="1705" y="1045"/>
                </a:lnTo>
                <a:lnTo>
                  <a:pt x="1692" y="1049"/>
                </a:lnTo>
                <a:lnTo>
                  <a:pt x="1678" y="1051"/>
                </a:lnTo>
                <a:lnTo>
                  <a:pt x="1667" y="1053"/>
                </a:lnTo>
                <a:lnTo>
                  <a:pt x="1656" y="1055"/>
                </a:lnTo>
                <a:lnTo>
                  <a:pt x="1642" y="1057"/>
                </a:lnTo>
                <a:lnTo>
                  <a:pt x="1631" y="1058"/>
                </a:lnTo>
                <a:lnTo>
                  <a:pt x="1617" y="1060"/>
                </a:lnTo>
                <a:lnTo>
                  <a:pt x="1606" y="1062"/>
                </a:lnTo>
                <a:lnTo>
                  <a:pt x="1593" y="1064"/>
                </a:lnTo>
                <a:lnTo>
                  <a:pt x="1581" y="1066"/>
                </a:lnTo>
                <a:lnTo>
                  <a:pt x="1568" y="1066"/>
                </a:lnTo>
                <a:lnTo>
                  <a:pt x="1556" y="1068"/>
                </a:lnTo>
                <a:lnTo>
                  <a:pt x="1543" y="1070"/>
                </a:lnTo>
                <a:lnTo>
                  <a:pt x="1531" y="1070"/>
                </a:lnTo>
                <a:lnTo>
                  <a:pt x="1518" y="1072"/>
                </a:lnTo>
                <a:lnTo>
                  <a:pt x="1507" y="1074"/>
                </a:lnTo>
                <a:lnTo>
                  <a:pt x="1493" y="1074"/>
                </a:lnTo>
                <a:lnTo>
                  <a:pt x="1482" y="1076"/>
                </a:lnTo>
                <a:lnTo>
                  <a:pt x="1468" y="1076"/>
                </a:lnTo>
                <a:lnTo>
                  <a:pt x="1358" y="925"/>
                </a:lnTo>
                <a:lnTo>
                  <a:pt x="1360" y="915"/>
                </a:lnTo>
                <a:lnTo>
                  <a:pt x="1361" y="904"/>
                </a:lnTo>
                <a:lnTo>
                  <a:pt x="1361" y="891"/>
                </a:lnTo>
                <a:lnTo>
                  <a:pt x="1358" y="879"/>
                </a:lnTo>
                <a:lnTo>
                  <a:pt x="1356" y="877"/>
                </a:lnTo>
                <a:lnTo>
                  <a:pt x="1354" y="875"/>
                </a:lnTo>
                <a:lnTo>
                  <a:pt x="1354" y="873"/>
                </a:lnTo>
                <a:lnTo>
                  <a:pt x="1352" y="872"/>
                </a:lnTo>
                <a:lnTo>
                  <a:pt x="1348" y="866"/>
                </a:lnTo>
                <a:lnTo>
                  <a:pt x="1344" y="864"/>
                </a:lnTo>
                <a:lnTo>
                  <a:pt x="1337" y="860"/>
                </a:lnTo>
                <a:lnTo>
                  <a:pt x="1331" y="858"/>
                </a:lnTo>
                <a:lnTo>
                  <a:pt x="1325" y="856"/>
                </a:lnTo>
                <a:lnTo>
                  <a:pt x="1318" y="856"/>
                </a:lnTo>
                <a:lnTo>
                  <a:pt x="1312" y="856"/>
                </a:lnTo>
                <a:lnTo>
                  <a:pt x="1304" y="858"/>
                </a:lnTo>
                <a:lnTo>
                  <a:pt x="1298" y="860"/>
                </a:lnTo>
                <a:lnTo>
                  <a:pt x="1295" y="864"/>
                </a:lnTo>
                <a:lnTo>
                  <a:pt x="1291" y="866"/>
                </a:lnTo>
                <a:lnTo>
                  <a:pt x="1289" y="870"/>
                </a:lnTo>
                <a:lnTo>
                  <a:pt x="1285" y="873"/>
                </a:lnTo>
                <a:lnTo>
                  <a:pt x="1283" y="877"/>
                </a:lnTo>
                <a:lnTo>
                  <a:pt x="1281" y="881"/>
                </a:lnTo>
                <a:lnTo>
                  <a:pt x="1279" y="885"/>
                </a:lnTo>
                <a:lnTo>
                  <a:pt x="1277" y="896"/>
                </a:lnTo>
                <a:lnTo>
                  <a:pt x="1277" y="908"/>
                </a:lnTo>
                <a:lnTo>
                  <a:pt x="1283" y="917"/>
                </a:lnTo>
                <a:lnTo>
                  <a:pt x="1289" y="925"/>
                </a:lnTo>
                <a:lnTo>
                  <a:pt x="1295" y="931"/>
                </a:lnTo>
                <a:lnTo>
                  <a:pt x="1300" y="934"/>
                </a:lnTo>
                <a:lnTo>
                  <a:pt x="1306" y="936"/>
                </a:lnTo>
                <a:lnTo>
                  <a:pt x="1312" y="938"/>
                </a:lnTo>
                <a:lnTo>
                  <a:pt x="1319" y="940"/>
                </a:lnTo>
                <a:lnTo>
                  <a:pt x="1325" y="940"/>
                </a:lnTo>
                <a:lnTo>
                  <a:pt x="1333" y="938"/>
                </a:lnTo>
                <a:lnTo>
                  <a:pt x="1339" y="936"/>
                </a:lnTo>
                <a:lnTo>
                  <a:pt x="1340" y="936"/>
                </a:lnTo>
                <a:lnTo>
                  <a:pt x="1340" y="936"/>
                </a:lnTo>
                <a:lnTo>
                  <a:pt x="1342" y="934"/>
                </a:lnTo>
                <a:lnTo>
                  <a:pt x="1342" y="934"/>
                </a:lnTo>
                <a:lnTo>
                  <a:pt x="1352" y="940"/>
                </a:lnTo>
                <a:lnTo>
                  <a:pt x="1360" y="946"/>
                </a:lnTo>
                <a:lnTo>
                  <a:pt x="1367" y="955"/>
                </a:lnTo>
                <a:lnTo>
                  <a:pt x="1373" y="963"/>
                </a:lnTo>
                <a:lnTo>
                  <a:pt x="1379" y="973"/>
                </a:lnTo>
                <a:lnTo>
                  <a:pt x="1382" y="982"/>
                </a:lnTo>
                <a:lnTo>
                  <a:pt x="1388" y="990"/>
                </a:lnTo>
                <a:lnTo>
                  <a:pt x="1396" y="999"/>
                </a:lnTo>
                <a:lnTo>
                  <a:pt x="1405" y="1015"/>
                </a:lnTo>
                <a:lnTo>
                  <a:pt x="1417" y="1032"/>
                </a:lnTo>
                <a:lnTo>
                  <a:pt x="1426" y="1047"/>
                </a:lnTo>
                <a:lnTo>
                  <a:pt x="1436" y="1060"/>
                </a:lnTo>
                <a:lnTo>
                  <a:pt x="1445" y="1076"/>
                </a:lnTo>
                <a:lnTo>
                  <a:pt x="1455" y="1093"/>
                </a:lnTo>
                <a:lnTo>
                  <a:pt x="1466" y="1106"/>
                </a:lnTo>
                <a:lnTo>
                  <a:pt x="1476" y="1123"/>
                </a:lnTo>
                <a:lnTo>
                  <a:pt x="1491" y="1150"/>
                </a:lnTo>
                <a:lnTo>
                  <a:pt x="1509" y="1179"/>
                </a:lnTo>
                <a:lnTo>
                  <a:pt x="1526" y="1205"/>
                </a:lnTo>
                <a:lnTo>
                  <a:pt x="1543" y="1234"/>
                </a:lnTo>
                <a:lnTo>
                  <a:pt x="1558" y="1263"/>
                </a:lnTo>
                <a:lnTo>
                  <a:pt x="1573" y="1291"/>
                </a:lnTo>
                <a:lnTo>
                  <a:pt x="1591" y="1322"/>
                </a:lnTo>
                <a:lnTo>
                  <a:pt x="1606" y="1350"/>
                </a:lnTo>
                <a:lnTo>
                  <a:pt x="1621" y="1381"/>
                </a:lnTo>
                <a:lnTo>
                  <a:pt x="1635" y="1411"/>
                </a:lnTo>
                <a:lnTo>
                  <a:pt x="1650" y="1442"/>
                </a:lnTo>
                <a:lnTo>
                  <a:pt x="1663" y="1474"/>
                </a:lnTo>
                <a:lnTo>
                  <a:pt x="1677" y="1507"/>
                </a:lnTo>
                <a:lnTo>
                  <a:pt x="1688" y="1539"/>
                </a:lnTo>
                <a:lnTo>
                  <a:pt x="1701" y="1571"/>
                </a:lnTo>
                <a:lnTo>
                  <a:pt x="1713" y="1606"/>
                </a:lnTo>
                <a:lnTo>
                  <a:pt x="1717" y="1621"/>
                </a:lnTo>
                <a:lnTo>
                  <a:pt x="1720" y="1638"/>
                </a:lnTo>
                <a:lnTo>
                  <a:pt x="1724" y="1655"/>
                </a:lnTo>
                <a:lnTo>
                  <a:pt x="1728" y="1671"/>
                </a:lnTo>
                <a:lnTo>
                  <a:pt x="1728" y="1688"/>
                </a:lnTo>
                <a:lnTo>
                  <a:pt x="1728" y="1703"/>
                </a:lnTo>
                <a:lnTo>
                  <a:pt x="1722" y="1718"/>
                </a:lnTo>
                <a:lnTo>
                  <a:pt x="1715" y="1732"/>
                </a:lnTo>
                <a:lnTo>
                  <a:pt x="1711" y="1736"/>
                </a:lnTo>
                <a:lnTo>
                  <a:pt x="1705" y="1739"/>
                </a:lnTo>
                <a:lnTo>
                  <a:pt x="1699" y="1741"/>
                </a:lnTo>
                <a:lnTo>
                  <a:pt x="1692" y="1743"/>
                </a:lnTo>
                <a:lnTo>
                  <a:pt x="1686" y="1745"/>
                </a:lnTo>
                <a:lnTo>
                  <a:pt x="1678" y="1745"/>
                </a:lnTo>
                <a:lnTo>
                  <a:pt x="1673" y="1745"/>
                </a:lnTo>
                <a:lnTo>
                  <a:pt x="1667" y="1743"/>
                </a:lnTo>
                <a:lnTo>
                  <a:pt x="1656" y="1737"/>
                </a:lnTo>
                <a:lnTo>
                  <a:pt x="1646" y="1734"/>
                </a:lnTo>
                <a:lnTo>
                  <a:pt x="1635" y="1730"/>
                </a:lnTo>
                <a:lnTo>
                  <a:pt x="1625" y="1724"/>
                </a:lnTo>
                <a:lnTo>
                  <a:pt x="1615" y="1718"/>
                </a:lnTo>
                <a:lnTo>
                  <a:pt x="1606" y="1715"/>
                </a:lnTo>
                <a:lnTo>
                  <a:pt x="1596" y="1709"/>
                </a:lnTo>
                <a:lnTo>
                  <a:pt x="1587" y="1703"/>
                </a:lnTo>
                <a:lnTo>
                  <a:pt x="1577" y="1697"/>
                </a:lnTo>
                <a:lnTo>
                  <a:pt x="1568" y="1694"/>
                </a:lnTo>
                <a:lnTo>
                  <a:pt x="1560" y="1688"/>
                </a:lnTo>
                <a:lnTo>
                  <a:pt x="1551" y="1682"/>
                </a:lnTo>
                <a:lnTo>
                  <a:pt x="1543" y="1676"/>
                </a:lnTo>
                <a:lnTo>
                  <a:pt x="1533" y="1671"/>
                </a:lnTo>
                <a:lnTo>
                  <a:pt x="1524" y="1665"/>
                </a:lnTo>
                <a:lnTo>
                  <a:pt x="1514" y="1659"/>
                </a:lnTo>
                <a:lnTo>
                  <a:pt x="1497" y="1646"/>
                </a:lnTo>
                <a:lnTo>
                  <a:pt x="1480" y="1633"/>
                </a:lnTo>
                <a:lnTo>
                  <a:pt x="1463" y="1619"/>
                </a:lnTo>
                <a:lnTo>
                  <a:pt x="1444" y="1606"/>
                </a:lnTo>
                <a:lnTo>
                  <a:pt x="1426" y="1591"/>
                </a:lnTo>
                <a:lnTo>
                  <a:pt x="1409" y="1577"/>
                </a:lnTo>
                <a:lnTo>
                  <a:pt x="1392" y="1562"/>
                </a:lnTo>
                <a:lnTo>
                  <a:pt x="1375" y="1547"/>
                </a:lnTo>
                <a:lnTo>
                  <a:pt x="1358" y="1531"/>
                </a:lnTo>
                <a:lnTo>
                  <a:pt x="1340" y="1514"/>
                </a:lnTo>
                <a:lnTo>
                  <a:pt x="1323" y="1499"/>
                </a:lnTo>
                <a:lnTo>
                  <a:pt x="1306" y="1482"/>
                </a:lnTo>
                <a:lnTo>
                  <a:pt x="1291" y="1467"/>
                </a:lnTo>
                <a:lnTo>
                  <a:pt x="1274" y="1449"/>
                </a:lnTo>
                <a:lnTo>
                  <a:pt x="1256" y="1432"/>
                </a:lnTo>
                <a:lnTo>
                  <a:pt x="1239" y="1415"/>
                </a:lnTo>
                <a:lnTo>
                  <a:pt x="1224" y="1398"/>
                </a:lnTo>
                <a:lnTo>
                  <a:pt x="1207" y="1381"/>
                </a:lnTo>
                <a:lnTo>
                  <a:pt x="1191" y="1364"/>
                </a:lnTo>
                <a:lnTo>
                  <a:pt x="1174" y="1346"/>
                </a:lnTo>
                <a:lnTo>
                  <a:pt x="1159" y="1329"/>
                </a:lnTo>
                <a:lnTo>
                  <a:pt x="1144" y="1312"/>
                </a:lnTo>
                <a:lnTo>
                  <a:pt x="1127" y="1295"/>
                </a:lnTo>
                <a:lnTo>
                  <a:pt x="1111" y="1276"/>
                </a:lnTo>
                <a:lnTo>
                  <a:pt x="1096" y="1259"/>
                </a:lnTo>
                <a:lnTo>
                  <a:pt x="1081" y="1242"/>
                </a:lnTo>
                <a:lnTo>
                  <a:pt x="1065" y="1224"/>
                </a:lnTo>
                <a:lnTo>
                  <a:pt x="1050" y="1207"/>
                </a:lnTo>
                <a:lnTo>
                  <a:pt x="1035" y="1190"/>
                </a:lnTo>
                <a:lnTo>
                  <a:pt x="1020" y="1173"/>
                </a:lnTo>
                <a:lnTo>
                  <a:pt x="1004" y="1158"/>
                </a:lnTo>
                <a:lnTo>
                  <a:pt x="989" y="1140"/>
                </a:lnTo>
                <a:lnTo>
                  <a:pt x="981" y="1140"/>
                </a:lnTo>
                <a:lnTo>
                  <a:pt x="1001" y="1165"/>
                </a:lnTo>
                <a:lnTo>
                  <a:pt x="1020" y="1192"/>
                </a:lnTo>
                <a:lnTo>
                  <a:pt x="1039" y="1217"/>
                </a:lnTo>
                <a:lnTo>
                  <a:pt x="1058" y="1242"/>
                </a:lnTo>
                <a:lnTo>
                  <a:pt x="1079" y="1266"/>
                </a:lnTo>
                <a:lnTo>
                  <a:pt x="1100" y="1291"/>
                </a:lnTo>
                <a:lnTo>
                  <a:pt x="1121" y="1316"/>
                </a:lnTo>
                <a:lnTo>
                  <a:pt x="1142" y="1343"/>
                </a:lnTo>
                <a:lnTo>
                  <a:pt x="1165" y="1367"/>
                </a:lnTo>
                <a:lnTo>
                  <a:pt x="1188" y="1392"/>
                </a:lnTo>
                <a:lnTo>
                  <a:pt x="1211" y="1417"/>
                </a:lnTo>
                <a:lnTo>
                  <a:pt x="1234" y="1442"/>
                </a:lnTo>
                <a:lnTo>
                  <a:pt x="1256" y="1467"/>
                </a:lnTo>
                <a:lnTo>
                  <a:pt x="1281" y="1491"/>
                </a:lnTo>
                <a:lnTo>
                  <a:pt x="1306" y="1516"/>
                </a:lnTo>
                <a:lnTo>
                  <a:pt x="1331" y="1541"/>
                </a:lnTo>
                <a:lnTo>
                  <a:pt x="1340" y="1551"/>
                </a:lnTo>
                <a:lnTo>
                  <a:pt x="1348" y="1560"/>
                </a:lnTo>
                <a:lnTo>
                  <a:pt x="1358" y="1568"/>
                </a:lnTo>
                <a:lnTo>
                  <a:pt x="1367" y="1577"/>
                </a:lnTo>
                <a:lnTo>
                  <a:pt x="1377" y="1585"/>
                </a:lnTo>
                <a:lnTo>
                  <a:pt x="1384" y="1594"/>
                </a:lnTo>
                <a:lnTo>
                  <a:pt x="1394" y="1602"/>
                </a:lnTo>
                <a:lnTo>
                  <a:pt x="1403" y="1610"/>
                </a:lnTo>
                <a:lnTo>
                  <a:pt x="1411" y="1617"/>
                </a:lnTo>
                <a:lnTo>
                  <a:pt x="1421" y="1625"/>
                </a:lnTo>
                <a:lnTo>
                  <a:pt x="1430" y="1633"/>
                </a:lnTo>
                <a:lnTo>
                  <a:pt x="1438" y="1640"/>
                </a:lnTo>
                <a:lnTo>
                  <a:pt x="1447" y="1648"/>
                </a:lnTo>
                <a:lnTo>
                  <a:pt x="1457" y="1654"/>
                </a:lnTo>
                <a:lnTo>
                  <a:pt x="1466" y="1661"/>
                </a:lnTo>
                <a:lnTo>
                  <a:pt x="1474" y="1667"/>
                </a:lnTo>
                <a:lnTo>
                  <a:pt x="1488" y="1676"/>
                </a:lnTo>
                <a:lnTo>
                  <a:pt x="1501" y="1686"/>
                </a:lnTo>
                <a:lnTo>
                  <a:pt x="1514" y="1695"/>
                </a:lnTo>
                <a:lnTo>
                  <a:pt x="1528" y="1705"/>
                </a:lnTo>
                <a:lnTo>
                  <a:pt x="1541" y="1715"/>
                </a:lnTo>
                <a:lnTo>
                  <a:pt x="1554" y="1726"/>
                </a:lnTo>
                <a:lnTo>
                  <a:pt x="1568" y="1734"/>
                </a:lnTo>
                <a:lnTo>
                  <a:pt x="1581" y="1743"/>
                </a:lnTo>
                <a:lnTo>
                  <a:pt x="1596" y="1753"/>
                </a:lnTo>
                <a:lnTo>
                  <a:pt x="1610" y="1760"/>
                </a:lnTo>
                <a:lnTo>
                  <a:pt x="1625" y="1766"/>
                </a:lnTo>
                <a:lnTo>
                  <a:pt x="1640" y="1772"/>
                </a:lnTo>
                <a:lnTo>
                  <a:pt x="1657" y="1776"/>
                </a:lnTo>
                <a:lnTo>
                  <a:pt x="1675" y="1777"/>
                </a:lnTo>
                <a:lnTo>
                  <a:pt x="1690" y="1779"/>
                </a:lnTo>
                <a:lnTo>
                  <a:pt x="1709" y="1779"/>
                </a:lnTo>
                <a:lnTo>
                  <a:pt x="1717" y="1776"/>
                </a:lnTo>
                <a:lnTo>
                  <a:pt x="1726" y="1772"/>
                </a:lnTo>
                <a:lnTo>
                  <a:pt x="1734" y="1768"/>
                </a:lnTo>
                <a:lnTo>
                  <a:pt x="1740" y="1760"/>
                </a:lnTo>
                <a:lnTo>
                  <a:pt x="1745" y="1755"/>
                </a:lnTo>
                <a:lnTo>
                  <a:pt x="1751" y="1747"/>
                </a:lnTo>
                <a:lnTo>
                  <a:pt x="1755" y="1741"/>
                </a:lnTo>
                <a:lnTo>
                  <a:pt x="1759" y="1734"/>
                </a:lnTo>
                <a:lnTo>
                  <a:pt x="1763" y="1716"/>
                </a:lnTo>
                <a:lnTo>
                  <a:pt x="1766" y="1699"/>
                </a:lnTo>
                <a:lnTo>
                  <a:pt x="1766" y="1684"/>
                </a:lnTo>
                <a:lnTo>
                  <a:pt x="1766" y="1667"/>
                </a:lnTo>
                <a:lnTo>
                  <a:pt x="1763" y="1650"/>
                </a:lnTo>
                <a:lnTo>
                  <a:pt x="1759" y="1633"/>
                </a:lnTo>
                <a:lnTo>
                  <a:pt x="1753" y="1615"/>
                </a:lnTo>
                <a:lnTo>
                  <a:pt x="1749" y="1600"/>
                </a:lnTo>
                <a:lnTo>
                  <a:pt x="1740" y="1573"/>
                </a:lnTo>
                <a:lnTo>
                  <a:pt x="1730" y="1549"/>
                </a:lnTo>
                <a:lnTo>
                  <a:pt x="1720" y="1524"/>
                </a:lnTo>
                <a:lnTo>
                  <a:pt x="1711" y="1499"/>
                </a:lnTo>
                <a:lnTo>
                  <a:pt x="1701" y="1474"/>
                </a:lnTo>
                <a:lnTo>
                  <a:pt x="1690" y="1449"/>
                </a:lnTo>
                <a:lnTo>
                  <a:pt x="1680" y="1427"/>
                </a:lnTo>
                <a:lnTo>
                  <a:pt x="1669" y="1404"/>
                </a:lnTo>
                <a:lnTo>
                  <a:pt x="1657" y="1383"/>
                </a:lnTo>
                <a:lnTo>
                  <a:pt x="1648" y="1364"/>
                </a:lnTo>
                <a:lnTo>
                  <a:pt x="1636" y="1343"/>
                </a:lnTo>
                <a:lnTo>
                  <a:pt x="1625" y="1322"/>
                </a:lnTo>
                <a:lnTo>
                  <a:pt x="1614" y="1303"/>
                </a:lnTo>
                <a:lnTo>
                  <a:pt x="1602" y="1284"/>
                </a:lnTo>
                <a:lnTo>
                  <a:pt x="1591" y="1264"/>
                </a:lnTo>
                <a:lnTo>
                  <a:pt x="1579" y="1243"/>
                </a:lnTo>
                <a:lnTo>
                  <a:pt x="1568" y="1226"/>
                </a:lnTo>
                <a:lnTo>
                  <a:pt x="1554" y="1207"/>
                </a:lnTo>
                <a:lnTo>
                  <a:pt x="1543" y="1188"/>
                </a:lnTo>
                <a:lnTo>
                  <a:pt x="1530" y="1169"/>
                </a:lnTo>
                <a:lnTo>
                  <a:pt x="1518" y="1150"/>
                </a:lnTo>
                <a:lnTo>
                  <a:pt x="1505" y="1131"/>
                </a:lnTo>
                <a:lnTo>
                  <a:pt x="1493" y="1114"/>
                </a:lnTo>
                <a:lnTo>
                  <a:pt x="1480" y="1095"/>
                </a:lnTo>
                <a:lnTo>
                  <a:pt x="1497" y="1091"/>
                </a:lnTo>
                <a:lnTo>
                  <a:pt x="1516" y="1089"/>
                </a:lnTo>
                <a:lnTo>
                  <a:pt x="1535" y="1085"/>
                </a:lnTo>
                <a:lnTo>
                  <a:pt x="1552" y="1083"/>
                </a:lnTo>
                <a:lnTo>
                  <a:pt x="1572" y="1081"/>
                </a:lnTo>
                <a:lnTo>
                  <a:pt x="1591" y="1079"/>
                </a:lnTo>
                <a:lnTo>
                  <a:pt x="1610" y="1076"/>
                </a:lnTo>
                <a:lnTo>
                  <a:pt x="1629" y="1076"/>
                </a:lnTo>
                <a:lnTo>
                  <a:pt x="1648" y="1072"/>
                </a:lnTo>
                <a:lnTo>
                  <a:pt x="1667" y="1070"/>
                </a:lnTo>
                <a:lnTo>
                  <a:pt x="1686" y="1068"/>
                </a:lnTo>
                <a:lnTo>
                  <a:pt x="1705" y="1064"/>
                </a:lnTo>
                <a:lnTo>
                  <a:pt x="1724" y="1062"/>
                </a:lnTo>
                <a:lnTo>
                  <a:pt x="1743" y="1058"/>
                </a:lnTo>
                <a:lnTo>
                  <a:pt x="1763" y="1055"/>
                </a:lnTo>
                <a:lnTo>
                  <a:pt x="1780" y="1051"/>
                </a:lnTo>
                <a:lnTo>
                  <a:pt x="1797" y="1049"/>
                </a:lnTo>
                <a:lnTo>
                  <a:pt x="1814" y="1045"/>
                </a:lnTo>
                <a:lnTo>
                  <a:pt x="1831" y="1041"/>
                </a:lnTo>
                <a:lnTo>
                  <a:pt x="1847" y="1037"/>
                </a:lnTo>
                <a:lnTo>
                  <a:pt x="1864" y="1034"/>
                </a:lnTo>
                <a:lnTo>
                  <a:pt x="1881" y="1030"/>
                </a:lnTo>
                <a:lnTo>
                  <a:pt x="1896" y="1026"/>
                </a:lnTo>
                <a:lnTo>
                  <a:pt x="1913" y="1020"/>
                </a:lnTo>
                <a:lnTo>
                  <a:pt x="1929" y="1016"/>
                </a:lnTo>
                <a:lnTo>
                  <a:pt x="1946" y="1011"/>
                </a:lnTo>
                <a:lnTo>
                  <a:pt x="1961" y="1007"/>
                </a:lnTo>
                <a:lnTo>
                  <a:pt x="1978" y="1001"/>
                </a:lnTo>
                <a:lnTo>
                  <a:pt x="1994" y="996"/>
                </a:lnTo>
                <a:lnTo>
                  <a:pt x="2011" y="990"/>
                </a:lnTo>
                <a:lnTo>
                  <a:pt x="2024" y="984"/>
                </a:lnTo>
                <a:lnTo>
                  <a:pt x="2041" y="980"/>
                </a:lnTo>
                <a:lnTo>
                  <a:pt x="2049" y="976"/>
                </a:lnTo>
                <a:lnTo>
                  <a:pt x="2057" y="973"/>
                </a:lnTo>
                <a:lnTo>
                  <a:pt x="2064" y="969"/>
                </a:lnTo>
                <a:lnTo>
                  <a:pt x="2072" y="965"/>
                </a:lnTo>
                <a:lnTo>
                  <a:pt x="2080" y="963"/>
                </a:lnTo>
                <a:lnTo>
                  <a:pt x="2087" y="959"/>
                </a:lnTo>
                <a:lnTo>
                  <a:pt x="2093" y="955"/>
                </a:lnTo>
                <a:lnTo>
                  <a:pt x="2101" y="952"/>
                </a:lnTo>
                <a:lnTo>
                  <a:pt x="2106" y="946"/>
                </a:lnTo>
                <a:lnTo>
                  <a:pt x="2114" y="942"/>
                </a:lnTo>
                <a:lnTo>
                  <a:pt x="2120" y="938"/>
                </a:lnTo>
                <a:lnTo>
                  <a:pt x="2125" y="933"/>
                </a:lnTo>
                <a:lnTo>
                  <a:pt x="2129" y="927"/>
                </a:lnTo>
                <a:lnTo>
                  <a:pt x="2135" y="921"/>
                </a:lnTo>
                <a:lnTo>
                  <a:pt x="2139" y="913"/>
                </a:lnTo>
                <a:lnTo>
                  <a:pt x="2143" y="908"/>
                </a:lnTo>
                <a:lnTo>
                  <a:pt x="2146" y="896"/>
                </a:lnTo>
                <a:lnTo>
                  <a:pt x="2148" y="887"/>
                </a:lnTo>
                <a:lnTo>
                  <a:pt x="2148" y="875"/>
                </a:lnTo>
                <a:lnTo>
                  <a:pt x="2148" y="866"/>
                </a:lnTo>
                <a:lnTo>
                  <a:pt x="2146" y="856"/>
                </a:lnTo>
                <a:lnTo>
                  <a:pt x="2143" y="845"/>
                </a:lnTo>
                <a:lnTo>
                  <a:pt x="2139" y="837"/>
                </a:lnTo>
                <a:lnTo>
                  <a:pt x="2133" y="830"/>
                </a:lnTo>
                <a:lnTo>
                  <a:pt x="2120" y="818"/>
                </a:lnTo>
                <a:lnTo>
                  <a:pt x="2106" y="807"/>
                </a:lnTo>
                <a:lnTo>
                  <a:pt x="2091" y="797"/>
                </a:lnTo>
                <a:lnTo>
                  <a:pt x="2076" y="788"/>
                </a:lnTo>
                <a:lnTo>
                  <a:pt x="2059" y="780"/>
                </a:lnTo>
                <a:lnTo>
                  <a:pt x="2041" y="772"/>
                </a:lnTo>
                <a:lnTo>
                  <a:pt x="2024" y="767"/>
                </a:lnTo>
                <a:lnTo>
                  <a:pt x="2005" y="761"/>
                </a:lnTo>
                <a:lnTo>
                  <a:pt x="1988" y="755"/>
                </a:lnTo>
                <a:lnTo>
                  <a:pt x="1969" y="749"/>
                </a:lnTo>
                <a:lnTo>
                  <a:pt x="1950" y="746"/>
                </a:lnTo>
                <a:lnTo>
                  <a:pt x="1931" y="742"/>
                </a:lnTo>
                <a:lnTo>
                  <a:pt x="1911" y="738"/>
                </a:lnTo>
                <a:lnTo>
                  <a:pt x="1894" y="734"/>
                </a:lnTo>
                <a:lnTo>
                  <a:pt x="1875" y="730"/>
                </a:lnTo>
                <a:lnTo>
                  <a:pt x="1858" y="727"/>
                </a:lnTo>
                <a:lnTo>
                  <a:pt x="1845" y="723"/>
                </a:lnTo>
                <a:lnTo>
                  <a:pt x="1831" y="721"/>
                </a:lnTo>
                <a:lnTo>
                  <a:pt x="1818" y="719"/>
                </a:lnTo>
                <a:lnTo>
                  <a:pt x="1805" y="715"/>
                </a:lnTo>
                <a:lnTo>
                  <a:pt x="1791" y="713"/>
                </a:lnTo>
                <a:lnTo>
                  <a:pt x="1778" y="711"/>
                </a:lnTo>
                <a:lnTo>
                  <a:pt x="1764" y="709"/>
                </a:lnTo>
                <a:lnTo>
                  <a:pt x="1751" y="708"/>
                </a:lnTo>
                <a:lnTo>
                  <a:pt x="1738" y="706"/>
                </a:lnTo>
                <a:lnTo>
                  <a:pt x="1724" y="704"/>
                </a:lnTo>
                <a:lnTo>
                  <a:pt x="1713" y="702"/>
                </a:lnTo>
                <a:lnTo>
                  <a:pt x="1698" y="702"/>
                </a:lnTo>
                <a:lnTo>
                  <a:pt x="1686" y="698"/>
                </a:lnTo>
                <a:lnTo>
                  <a:pt x="1673" y="698"/>
                </a:lnTo>
                <a:lnTo>
                  <a:pt x="1659" y="696"/>
                </a:lnTo>
                <a:lnTo>
                  <a:pt x="1646" y="694"/>
                </a:lnTo>
                <a:lnTo>
                  <a:pt x="1633" y="694"/>
                </a:lnTo>
                <a:lnTo>
                  <a:pt x="1619" y="692"/>
                </a:lnTo>
                <a:lnTo>
                  <a:pt x="1608" y="692"/>
                </a:lnTo>
                <a:lnTo>
                  <a:pt x="1594" y="690"/>
                </a:lnTo>
                <a:lnTo>
                  <a:pt x="1581" y="690"/>
                </a:lnTo>
                <a:lnTo>
                  <a:pt x="1568" y="688"/>
                </a:lnTo>
                <a:lnTo>
                  <a:pt x="1554" y="688"/>
                </a:lnTo>
                <a:lnTo>
                  <a:pt x="1541" y="687"/>
                </a:lnTo>
                <a:lnTo>
                  <a:pt x="1528" y="687"/>
                </a:lnTo>
                <a:lnTo>
                  <a:pt x="1514" y="685"/>
                </a:lnTo>
                <a:lnTo>
                  <a:pt x="1503" y="685"/>
                </a:lnTo>
                <a:lnTo>
                  <a:pt x="1489" y="685"/>
                </a:lnTo>
                <a:lnTo>
                  <a:pt x="1476" y="683"/>
                </a:lnTo>
                <a:lnTo>
                  <a:pt x="1463" y="683"/>
                </a:lnTo>
                <a:lnTo>
                  <a:pt x="1449" y="683"/>
                </a:lnTo>
                <a:lnTo>
                  <a:pt x="1436" y="681"/>
                </a:lnTo>
                <a:lnTo>
                  <a:pt x="1434" y="681"/>
                </a:lnTo>
                <a:lnTo>
                  <a:pt x="1432" y="679"/>
                </a:lnTo>
                <a:lnTo>
                  <a:pt x="1434" y="677"/>
                </a:lnTo>
                <a:lnTo>
                  <a:pt x="1434" y="673"/>
                </a:lnTo>
                <a:lnTo>
                  <a:pt x="1459" y="648"/>
                </a:lnTo>
                <a:lnTo>
                  <a:pt x="1484" y="622"/>
                </a:lnTo>
                <a:lnTo>
                  <a:pt x="1507" y="595"/>
                </a:lnTo>
                <a:lnTo>
                  <a:pt x="1526" y="568"/>
                </a:lnTo>
                <a:lnTo>
                  <a:pt x="1547" y="543"/>
                </a:lnTo>
                <a:lnTo>
                  <a:pt x="1566" y="515"/>
                </a:lnTo>
                <a:lnTo>
                  <a:pt x="1583" y="488"/>
                </a:lnTo>
                <a:lnTo>
                  <a:pt x="1600" y="461"/>
                </a:lnTo>
                <a:lnTo>
                  <a:pt x="1615" y="431"/>
                </a:lnTo>
                <a:lnTo>
                  <a:pt x="1631" y="402"/>
                </a:lnTo>
                <a:lnTo>
                  <a:pt x="1646" y="374"/>
                </a:lnTo>
                <a:lnTo>
                  <a:pt x="1661" y="343"/>
                </a:lnTo>
                <a:lnTo>
                  <a:pt x="1675" y="313"/>
                </a:lnTo>
                <a:lnTo>
                  <a:pt x="1688" y="280"/>
                </a:lnTo>
                <a:lnTo>
                  <a:pt x="1701" y="246"/>
                </a:lnTo>
                <a:lnTo>
                  <a:pt x="1713" y="214"/>
                </a:lnTo>
                <a:lnTo>
                  <a:pt x="1720" y="189"/>
                </a:lnTo>
                <a:lnTo>
                  <a:pt x="1728" y="164"/>
                </a:lnTo>
                <a:lnTo>
                  <a:pt x="1734" y="139"/>
                </a:lnTo>
                <a:lnTo>
                  <a:pt x="1738" y="114"/>
                </a:lnTo>
                <a:lnTo>
                  <a:pt x="1741" y="91"/>
                </a:lnTo>
                <a:lnTo>
                  <a:pt x="1738" y="67"/>
                </a:lnTo>
                <a:lnTo>
                  <a:pt x="1730" y="46"/>
                </a:lnTo>
                <a:lnTo>
                  <a:pt x="1717" y="27"/>
                </a:lnTo>
                <a:lnTo>
                  <a:pt x="1709" y="19"/>
                </a:lnTo>
                <a:lnTo>
                  <a:pt x="1701" y="13"/>
                </a:lnTo>
                <a:lnTo>
                  <a:pt x="1694" y="9"/>
                </a:lnTo>
                <a:lnTo>
                  <a:pt x="1684" y="6"/>
                </a:lnTo>
                <a:lnTo>
                  <a:pt x="1675" y="2"/>
                </a:lnTo>
                <a:lnTo>
                  <a:pt x="1667" y="0"/>
                </a:lnTo>
                <a:lnTo>
                  <a:pt x="1657" y="0"/>
                </a:lnTo>
                <a:lnTo>
                  <a:pt x="1648" y="2"/>
                </a:lnTo>
                <a:lnTo>
                  <a:pt x="1631" y="8"/>
                </a:lnTo>
                <a:lnTo>
                  <a:pt x="1614" y="15"/>
                </a:lnTo>
                <a:lnTo>
                  <a:pt x="1596" y="25"/>
                </a:lnTo>
                <a:lnTo>
                  <a:pt x="1581" y="32"/>
                </a:lnTo>
                <a:lnTo>
                  <a:pt x="1564" y="42"/>
                </a:lnTo>
                <a:lnTo>
                  <a:pt x="1549" y="51"/>
                </a:lnTo>
                <a:lnTo>
                  <a:pt x="1531" y="63"/>
                </a:lnTo>
                <a:lnTo>
                  <a:pt x="1516" y="74"/>
                </a:lnTo>
                <a:lnTo>
                  <a:pt x="1501" y="84"/>
                </a:lnTo>
                <a:lnTo>
                  <a:pt x="1486" y="95"/>
                </a:lnTo>
                <a:lnTo>
                  <a:pt x="1470" y="109"/>
                </a:lnTo>
                <a:lnTo>
                  <a:pt x="1455" y="122"/>
                </a:lnTo>
                <a:lnTo>
                  <a:pt x="1440" y="133"/>
                </a:lnTo>
                <a:lnTo>
                  <a:pt x="1424" y="147"/>
                </a:lnTo>
                <a:lnTo>
                  <a:pt x="1409" y="160"/>
                </a:lnTo>
                <a:lnTo>
                  <a:pt x="1394" y="173"/>
                </a:lnTo>
                <a:lnTo>
                  <a:pt x="1381" y="189"/>
                </a:lnTo>
                <a:lnTo>
                  <a:pt x="1367" y="202"/>
                </a:lnTo>
                <a:lnTo>
                  <a:pt x="1352" y="217"/>
                </a:lnTo>
                <a:lnTo>
                  <a:pt x="1337" y="231"/>
                </a:lnTo>
                <a:lnTo>
                  <a:pt x="1323" y="246"/>
                </a:lnTo>
                <a:lnTo>
                  <a:pt x="1310" y="259"/>
                </a:lnTo>
                <a:lnTo>
                  <a:pt x="1297" y="275"/>
                </a:lnTo>
                <a:lnTo>
                  <a:pt x="1283" y="290"/>
                </a:lnTo>
                <a:lnTo>
                  <a:pt x="1268" y="305"/>
                </a:lnTo>
                <a:lnTo>
                  <a:pt x="1255" y="320"/>
                </a:lnTo>
                <a:lnTo>
                  <a:pt x="1241" y="336"/>
                </a:lnTo>
                <a:lnTo>
                  <a:pt x="1228" y="349"/>
                </a:lnTo>
                <a:lnTo>
                  <a:pt x="1214" y="364"/>
                </a:lnTo>
                <a:lnTo>
                  <a:pt x="1201" y="379"/>
                </a:lnTo>
                <a:lnTo>
                  <a:pt x="1190" y="393"/>
                </a:lnTo>
                <a:lnTo>
                  <a:pt x="1176" y="408"/>
                </a:lnTo>
                <a:lnTo>
                  <a:pt x="1169" y="416"/>
                </a:lnTo>
                <a:lnTo>
                  <a:pt x="1163" y="423"/>
                </a:lnTo>
                <a:lnTo>
                  <a:pt x="1155" y="429"/>
                </a:lnTo>
                <a:lnTo>
                  <a:pt x="1151" y="437"/>
                </a:lnTo>
                <a:lnTo>
                  <a:pt x="1144" y="444"/>
                </a:lnTo>
                <a:lnTo>
                  <a:pt x="1138" y="452"/>
                </a:lnTo>
                <a:lnTo>
                  <a:pt x="1132" y="458"/>
                </a:lnTo>
                <a:lnTo>
                  <a:pt x="1127" y="465"/>
                </a:lnTo>
                <a:lnTo>
                  <a:pt x="1121" y="473"/>
                </a:lnTo>
                <a:lnTo>
                  <a:pt x="1115" y="479"/>
                </a:lnTo>
                <a:lnTo>
                  <a:pt x="1109" y="486"/>
                </a:lnTo>
                <a:lnTo>
                  <a:pt x="1104" y="494"/>
                </a:lnTo>
                <a:lnTo>
                  <a:pt x="1098" y="502"/>
                </a:lnTo>
                <a:lnTo>
                  <a:pt x="1092" y="507"/>
                </a:lnTo>
                <a:lnTo>
                  <a:pt x="1086" y="515"/>
                </a:lnTo>
                <a:lnTo>
                  <a:pt x="1081" y="522"/>
                </a:lnTo>
                <a:lnTo>
                  <a:pt x="1083" y="524"/>
                </a:lnTo>
                <a:lnTo>
                  <a:pt x="1085" y="528"/>
                </a:lnTo>
                <a:lnTo>
                  <a:pt x="1086" y="530"/>
                </a:lnTo>
                <a:lnTo>
                  <a:pt x="1088" y="530"/>
                </a:lnTo>
                <a:lnTo>
                  <a:pt x="1276" y="332"/>
                </a:lnTo>
                <a:lnTo>
                  <a:pt x="1293" y="315"/>
                </a:lnTo>
                <a:lnTo>
                  <a:pt x="1308" y="297"/>
                </a:lnTo>
                <a:lnTo>
                  <a:pt x="1325" y="280"/>
                </a:lnTo>
                <a:lnTo>
                  <a:pt x="1342" y="265"/>
                </a:lnTo>
                <a:lnTo>
                  <a:pt x="1360" y="250"/>
                </a:lnTo>
                <a:lnTo>
                  <a:pt x="1377" y="235"/>
                </a:lnTo>
                <a:lnTo>
                  <a:pt x="1392" y="217"/>
                </a:lnTo>
                <a:lnTo>
                  <a:pt x="1409" y="204"/>
                </a:lnTo>
                <a:lnTo>
                  <a:pt x="1426" y="189"/>
                </a:lnTo>
                <a:lnTo>
                  <a:pt x="1444" y="175"/>
                </a:lnTo>
                <a:lnTo>
                  <a:pt x="1459" y="162"/>
                </a:lnTo>
                <a:lnTo>
                  <a:pt x="1476" y="149"/>
                </a:lnTo>
                <a:lnTo>
                  <a:pt x="1493" y="135"/>
                </a:lnTo>
                <a:lnTo>
                  <a:pt x="1509" y="122"/>
                </a:lnTo>
                <a:lnTo>
                  <a:pt x="1526" y="111"/>
                </a:lnTo>
                <a:lnTo>
                  <a:pt x="1543" y="99"/>
                </a:lnTo>
                <a:lnTo>
                  <a:pt x="1551" y="95"/>
                </a:lnTo>
                <a:lnTo>
                  <a:pt x="1558" y="90"/>
                </a:lnTo>
                <a:lnTo>
                  <a:pt x="1568" y="84"/>
                </a:lnTo>
                <a:lnTo>
                  <a:pt x="1575" y="78"/>
                </a:lnTo>
                <a:lnTo>
                  <a:pt x="1585" y="70"/>
                </a:lnTo>
                <a:lnTo>
                  <a:pt x="1593" y="65"/>
                </a:lnTo>
                <a:lnTo>
                  <a:pt x="1602" y="59"/>
                </a:lnTo>
                <a:lnTo>
                  <a:pt x="1612" y="55"/>
                </a:lnTo>
                <a:lnTo>
                  <a:pt x="1621" y="49"/>
                </a:lnTo>
                <a:lnTo>
                  <a:pt x="1631" y="46"/>
                </a:lnTo>
                <a:lnTo>
                  <a:pt x="1640" y="44"/>
                </a:lnTo>
                <a:lnTo>
                  <a:pt x="1650" y="42"/>
                </a:lnTo>
                <a:lnTo>
                  <a:pt x="1659" y="42"/>
                </a:lnTo>
                <a:lnTo>
                  <a:pt x="1669" y="44"/>
                </a:lnTo>
                <a:lnTo>
                  <a:pt x="1680" y="48"/>
                </a:lnTo>
                <a:lnTo>
                  <a:pt x="1690" y="53"/>
                </a:lnTo>
                <a:lnTo>
                  <a:pt x="1699" y="70"/>
                </a:lnTo>
                <a:lnTo>
                  <a:pt x="1705" y="90"/>
                </a:lnTo>
                <a:lnTo>
                  <a:pt x="1705" y="111"/>
                </a:lnTo>
                <a:lnTo>
                  <a:pt x="1703" y="132"/>
                </a:lnTo>
                <a:lnTo>
                  <a:pt x="1696" y="152"/>
                </a:lnTo>
                <a:lnTo>
                  <a:pt x="1690" y="175"/>
                </a:lnTo>
                <a:lnTo>
                  <a:pt x="1684" y="196"/>
                </a:lnTo>
                <a:lnTo>
                  <a:pt x="1678" y="217"/>
                </a:lnTo>
                <a:lnTo>
                  <a:pt x="1677" y="223"/>
                </a:lnTo>
                <a:lnTo>
                  <a:pt x="1673" y="231"/>
                </a:lnTo>
                <a:lnTo>
                  <a:pt x="1671" y="236"/>
                </a:lnTo>
                <a:lnTo>
                  <a:pt x="1669" y="244"/>
                </a:lnTo>
                <a:lnTo>
                  <a:pt x="1665" y="250"/>
                </a:lnTo>
                <a:lnTo>
                  <a:pt x="1661" y="257"/>
                </a:lnTo>
                <a:lnTo>
                  <a:pt x="1659" y="263"/>
                </a:lnTo>
                <a:lnTo>
                  <a:pt x="1657" y="271"/>
                </a:lnTo>
                <a:lnTo>
                  <a:pt x="1650" y="292"/>
                </a:lnTo>
                <a:lnTo>
                  <a:pt x="1640" y="313"/>
                </a:lnTo>
                <a:lnTo>
                  <a:pt x="1633" y="332"/>
                </a:lnTo>
                <a:lnTo>
                  <a:pt x="1625" y="353"/>
                </a:lnTo>
                <a:lnTo>
                  <a:pt x="1615" y="372"/>
                </a:lnTo>
                <a:lnTo>
                  <a:pt x="1606" y="393"/>
                </a:lnTo>
                <a:lnTo>
                  <a:pt x="1596" y="412"/>
                </a:lnTo>
                <a:lnTo>
                  <a:pt x="1587" y="431"/>
                </a:lnTo>
                <a:lnTo>
                  <a:pt x="1581" y="444"/>
                </a:lnTo>
                <a:lnTo>
                  <a:pt x="1573" y="458"/>
                </a:lnTo>
                <a:lnTo>
                  <a:pt x="1566" y="471"/>
                </a:lnTo>
                <a:lnTo>
                  <a:pt x="1558" y="484"/>
                </a:lnTo>
                <a:lnTo>
                  <a:pt x="1551" y="496"/>
                </a:lnTo>
                <a:lnTo>
                  <a:pt x="1543" y="507"/>
                </a:lnTo>
                <a:lnTo>
                  <a:pt x="1535" y="521"/>
                </a:lnTo>
                <a:lnTo>
                  <a:pt x="1528" y="532"/>
                </a:lnTo>
                <a:lnTo>
                  <a:pt x="1520" y="543"/>
                </a:lnTo>
                <a:lnTo>
                  <a:pt x="1512" y="555"/>
                </a:lnTo>
                <a:lnTo>
                  <a:pt x="1503" y="568"/>
                </a:lnTo>
                <a:lnTo>
                  <a:pt x="1495" y="580"/>
                </a:lnTo>
                <a:lnTo>
                  <a:pt x="1488" y="591"/>
                </a:lnTo>
                <a:lnTo>
                  <a:pt x="1478" y="603"/>
                </a:lnTo>
                <a:lnTo>
                  <a:pt x="1468" y="614"/>
                </a:lnTo>
                <a:lnTo>
                  <a:pt x="1461" y="625"/>
                </a:lnTo>
                <a:lnTo>
                  <a:pt x="1451" y="641"/>
                </a:lnTo>
                <a:lnTo>
                  <a:pt x="1442" y="652"/>
                </a:lnTo>
                <a:lnTo>
                  <a:pt x="1432" y="660"/>
                </a:lnTo>
                <a:lnTo>
                  <a:pt x="1421" y="667"/>
                </a:lnTo>
                <a:lnTo>
                  <a:pt x="1407" y="673"/>
                </a:lnTo>
                <a:lnTo>
                  <a:pt x="1396" y="675"/>
                </a:lnTo>
                <a:lnTo>
                  <a:pt x="1382" y="677"/>
                </a:lnTo>
                <a:lnTo>
                  <a:pt x="1369" y="679"/>
                </a:lnTo>
                <a:lnTo>
                  <a:pt x="1354" y="679"/>
                </a:lnTo>
                <a:lnTo>
                  <a:pt x="1340" y="679"/>
                </a:lnTo>
                <a:lnTo>
                  <a:pt x="1325" y="677"/>
                </a:lnTo>
                <a:lnTo>
                  <a:pt x="1312" y="677"/>
                </a:lnTo>
                <a:lnTo>
                  <a:pt x="1297" y="677"/>
                </a:lnTo>
                <a:lnTo>
                  <a:pt x="1281" y="677"/>
                </a:lnTo>
                <a:lnTo>
                  <a:pt x="1268" y="677"/>
                </a:lnTo>
                <a:lnTo>
                  <a:pt x="1253" y="677"/>
                </a:lnTo>
                <a:lnTo>
                  <a:pt x="1243" y="677"/>
                </a:lnTo>
                <a:lnTo>
                  <a:pt x="1232" y="677"/>
                </a:lnTo>
                <a:lnTo>
                  <a:pt x="1220" y="677"/>
                </a:lnTo>
                <a:lnTo>
                  <a:pt x="1211" y="677"/>
                </a:lnTo>
                <a:lnTo>
                  <a:pt x="1201" y="677"/>
                </a:lnTo>
                <a:lnTo>
                  <a:pt x="1190" y="677"/>
                </a:lnTo>
                <a:lnTo>
                  <a:pt x="1180" y="677"/>
                </a:lnTo>
                <a:lnTo>
                  <a:pt x="1169" y="677"/>
                </a:lnTo>
                <a:lnTo>
                  <a:pt x="1153" y="658"/>
                </a:lnTo>
                <a:lnTo>
                  <a:pt x="1138" y="639"/>
                </a:lnTo>
                <a:lnTo>
                  <a:pt x="1123" y="620"/>
                </a:lnTo>
                <a:lnTo>
                  <a:pt x="1107" y="599"/>
                </a:lnTo>
                <a:lnTo>
                  <a:pt x="1090" y="580"/>
                </a:lnTo>
                <a:lnTo>
                  <a:pt x="1073" y="559"/>
                </a:lnTo>
                <a:lnTo>
                  <a:pt x="1058" y="540"/>
                </a:lnTo>
                <a:lnTo>
                  <a:pt x="1041" y="519"/>
                </a:lnTo>
                <a:lnTo>
                  <a:pt x="1023" y="500"/>
                </a:lnTo>
                <a:lnTo>
                  <a:pt x="1006" y="479"/>
                </a:lnTo>
                <a:lnTo>
                  <a:pt x="987" y="458"/>
                </a:lnTo>
                <a:lnTo>
                  <a:pt x="970" y="437"/>
                </a:lnTo>
                <a:lnTo>
                  <a:pt x="953" y="418"/>
                </a:lnTo>
                <a:lnTo>
                  <a:pt x="934" y="397"/>
                </a:lnTo>
                <a:lnTo>
                  <a:pt x="915" y="376"/>
                </a:lnTo>
                <a:lnTo>
                  <a:pt x="897" y="357"/>
                </a:lnTo>
                <a:lnTo>
                  <a:pt x="878" y="336"/>
                </a:lnTo>
                <a:lnTo>
                  <a:pt x="859" y="317"/>
                </a:lnTo>
                <a:lnTo>
                  <a:pt x="840" y="296"/>
                </a:lnTo>
                <a:lnTo>
                  <a:pt x="821" y="276"/>
                </a:lnTo>
                <a:lnTo>
                  <a:pt x="802" y="257"/>
                </a:lnTo>
                <a:lnTo>
                  <a:pt x="783" y="238"/>
                </a:lnTo>
                <a:lnTo>
                  <a:pt x="764" y="219"/>
                </a:lnTo>
                <a:lnTo>
                  <a:pt x="743" y="202"/>
                </a:lnTo>
                <a:lnTo>
                  <a:pt x="724" y="185"/>
                </a:lnTo>
                <a:lnTo>
                  <a:pt x="705" y="166"/>
                </a:lnTo>
                <a:lnTo>
                  <a:pt x="684" y="149"/>
                </a:lnTo>
                <a:lnTo>
                  <a:pt x="662" y="132"/>
                </a:lnTo>
                <a:lnTo>
                  <a:pt x="643" y="116"/>
                </a:lnTo>
                <a:lnTo>
                  <a:pt x="622" y="101"/>
                </a:lnTo>
                <a:lnTo>
                  <a:pt x="603" y="86"/>
                </a:lnTo>
                <a:lnTo>
                  <a:pt x="582" y="70"/>
                </a:lnTo>
                <a:lnTo>
                  <a:pt x="577" y="67"/>
                </a:lnTo>
                <a:lnTo>
                  <a:pt x="573" y="65"/>
                </a:lnTo>
                <a:lnTo>
                  <a:pt x="569" y="63"/>
                </a:lnTo>
                <a:lnTo>
                  <a:pt x="563" y="59"/>
                </a:lnTo>
                <a:lnTo>
                  <a:pt x="559" y="57"/>
                </a:lnTo>
                <a:lnTo>
                  <a:pt x="556" y="53"/>
                </a:lnTo>
                <a:lnTo>
                  <a:pt x="550" y="51"/>
                </a:lnTo>
                <a:lnTo>
                  <a:pt x="546" y="49"/>
                </a:lnTo>
                <a:lnTo>
                  <a:pt x="540" y="46"/>
                </a:lnTo>
                <a:lnTo>
                  <a:pt x="535" y="42"/>
                </a:lnTo>
                <a:lnTo>
                  <a:pt x="527" y="38"/>
                </a:lnTo>
                <a:lnTo>
                  <a:pt x="521" y="36"/>
                </a:lnTo>
                <a:lnTo>
                  <a:pt x="514" y="32"/>
                </a:lnTo>
                <a:lnTo>
                  <a:pt x="508" y="30"/>
                </a:lnTo>
                <a:lnTo>
                  <a:pt x="502" y="29"/>
                </a:lnTo>
                <a:lnTo>
                  <a:pt x="494" y="27"/>
                </a:lnTo>
                <a:lnTo>
                  <a:pt x="487" y="25"/>
                </a:lnTo>
                <a:lnTo>
                  <a:pt x="481" y="25"/>
                </a:lnTo>
                <a:lnTo>
                  <a:pt x="473" y="23"/>
                </a:lnTo>
                <a:lnTo>
                  <a:pt x="466" y="23"/>
                </a:lnTo>
                <a:lnTo>
                  <a:pt x="458" y="23"/>
                </a:lnTo>
                <a:lnTo>
                  <a:pt x="452" y="25"/>
                </a:lnTo>
                <a:lnTo>
                  <a:pt x="445" y="27"/>
                </a:lnTo>
                <a:lnTo>
                  <a:pt x="437" y="29"/>
                </a:lnTo>
                <a:lnTo>
                  <a:pt x="428" y="32"/>
                </a:lnTo>
                <a:lnTo>
                  <a:pt x="418" y="38"/>
                </a:lnTo>
                <a:lnTo>
                  <a:pt x="410" y="46"/>
                </a:lnTo>
                <a:lnTo>
                  <a:pt x="403" y="53"/>
                </a:lnTo>
                <a:lnTo>
                  <a:pt x="397" y="61"/>
                </a:lnTo>
                <a:lnTo>
                  <a:pt x="391" y="70"/>
                </a:lnTo>
                <a:lnTo>
                  <a:pt x="387" y="82"/>
                </a:lnTo>
                <a:lnTo>
                  <a:pt x="384" y="91"/>
                </a:lnTo>
                <a:lnTo>
                  <a:pt x="386" y="126"/>
                </a:lnTo>
                <a:lnTo>
                  <a:pt x="391" y="160"/>
                </a:lnTo>
                <a:lnTo>
                  <a:pt x="401" y="193"/>
                </a:lnTo>
                <a:lnTo>
                  <a:pt x="412" y="223"/>
                </a:lnTo>
                <a:lnTo>
                  <a:pt x="424" y="255"/>
                </a:lnTo>
                <a:lnTo>
                  <a:pt x="437" y="284"/>
                </a:lnTo>
                <a:lnTo>
                  <a:pt x="451" y="315"/>
                </a:lnTo>
                <a:lnTo>
                  <a:pt x="464" y="345"/>
                </a:lnTo>
                <a:lnTo>
                  <a:pt x="472" y="364"/>
                </a:lnTo>
                <a:lnTo>
                  <a:pt x="481" y="383"/>
                </a:lnTo>
                <a:lnTo>
                  <a:pt x="491" y="400"/>
                </a:lnTo>
                <a:lnTo>
                  <a:pt x="498" y="420"/>
                </a:lnTo>
                <a:lnTo>
                  <a:pt x="508" y="437"/>
                </a:lnTo>
                <a:lnTo>
                  <a:pt x="517" y="456"/>
                </a:lnTo>
                <a:lnTo>
                  <a:pt x="527" y="475"/>
                </a:lnTo>
                <a:lnTo>
                  <a:pt x="536" y="492"/>
                </a:lnTo>
                <a:lnTo>
                  <a:pt x="546" y="509"/>
                </a:lnTo>
                <a:lnTo>
                  <a:pt x="556" y="526"/>
                </a:lnTo>
                <a:lnTo>
                  <a:pt x="565" y="543"/>
                </a:lnTo>
                <a:lnTo>
                  <a:pt x="575" y="561"/>
                </a:lnTo>
                <a:lnTo>
                  <a:pt x="584" y="580"/>
                </a:lnTo>
                <a:lnTo>
                  <a:pt x="594" y="597"/>
                </a:lnTo>
                <a:lnTo>
                  <a:pt x="603" y="612"/>
                </a:lnTo>
                <a:lnTo>
                  <a:pt x="613" y="629"/>
                </a:lnTo>
                <a:lnTo>
                  <a:pt x="619" y="637"/>
                </a:lnTo>
                <a:lnTo>
                  <a:pt x="622" y="643"/>
                </a:lnTo>
                <a:lnTo>
                  <a:pt x="626" y="648"/>
                </a:lnTo>
                <a:lnTo>
                  <a:pt x="632" y="656"/>
                </a:lnTo>
                <a:lnTo>
                  <a:pt x="636" y="662"/>
                </a:lnTo>
                <a:lnTo>
                  <a:pt x="640" y="667"/>
                </a:lnTo>
                <a:lnTo>
                  <a:pt x="643" y="675"/>
                </a:lnTo>
                <a:lnTo>
                  <a:pt x="647" y="681"/>
                </a:lnTo>
                <a:lnTo>
                  <a:pt x="659" y="677"/>
                </a:lnTo>
                <a:lnTo>
                  <a:pt x="645" y="654"/>
                </a:lnTo>
                <a:lnTo>
                  <a:pt x="632" y="629"/>
                </a:lnTo>
                <a:lnTo>
                  <a:pt x="620" y="608"/>
                </a:lnTo>
                <a:lnTo>
                  <a:pt x="607" y="584"/>
                </a:lnTo>
                <a:lnTo>
                  <a:pt x="594" y="561"/>
                </a:lnTo>
                <a:lnTo>
                  <a:pt x="582" y="536"/>
                </a:lnTo>
                <a:lnTo>
                  <a:pt x="569" y="513"/>
                </a:lnTo>
                <a:lnTo>
                  <a:pt x="557" y="488"/>
                </a:lnTo>
                <a:lnTo>
                  <a:pt x="546" y="463"/>
                </a:lnTo>
                <a:lnTo>
                  <a:pt x="535" y="439"/>
                </a:lnTo>
                <a:lnTo>
                  <a:pt x="521" y="414"/>
                </a:lnTo>
                <a:lnTo>
                  <a:pt x="510" y="387"/>
                </a:lnTo>
                <a:lnTo>
                  <a:pt x="500" y="362"/>
                </a:lnTo>
                <a:lnTo>
                  <a:pt x="489" y="336"/>
                </a:lnTo>
                <a:lnTo>
                  <a:pt x="477" y="309"/>
                </a:lnTo>
                <a:lnTo>
                  <a:pt x="468" y="282"/>
                </a:lnTo>
                <a:lnTo>
                  <a:pt x="464" y="273"/>
                </a:lnTo>
                <a:lnTo>
                  <a:pt x="462" y="265"/>
                </a:lnTo>
                <a:lnTo>
                  <a:pt x="458" y="255"/>
                </a:lnTo>
                <a:lnTo>
                  <a:pt x="454" y="248"/>
                </a:lnTo>
                <a:lnTo>
                  <a:pt x="452" y="238"/>
                </a:lnTo>
                <a:lnTo>
                  <a:pt x="449" y="231"/>
                </a:lnTo>
                <a:lnTo>
                  <a:pt x="447" y="223"/>
                </a:lnTo>
                <a:lnTo>
                  <a:pt x="443" y="215"/>
                </a:lnTo>
                <a:lnTo>
                  <a:pt x="439" y="196"/>
                </a:lnTo>
                <a:lnTo>
                  <a:pt x="433" y="179"/>
                </a:lnTo>
                <a:lnTo>
                  <a:pt x="430" y="160"/>
                </a:lnTo>
                <a:lnTo>
                  <a:pt x="426" y="141"/>
                </a:lnTo>
                <a:lnTo>
                  <a:pt x="424" y="122"/>
                </a:lnTo>
                <a:lnTo>
                  <a:pt x="426" y="105"/>
                </a:lnTo>
                <a:lnTo>
                  <a:pt x="431" y="90"/>
                </a:lnTo>
                <a:lnTo>
                  <a:pt x="441" y="74"/>
                </a:lnTo>
                <a:lnTo>
                  <a:pt x="445" y="67"/>
                </a:lnTo>
                <a:lnTo>
                  <a:pt x="451" y="65"/>
                </a:lnTo>
                <a:lnTo>
                  <a:pt x="458" y="61"/>
                </a:lnTo>
                <a:lnTo>
                  <a:pt x="464" y="61"/>
                </a:lnTo>
                <a:lnTo>
                  <a:pt x="472" y="59"/>
                </a:lnTo>
                <a:lnTo>
                  <a:pt x="477" y="59"/>
                </a:lnTo>
                <a:lnTo>
                  <a:pt x="485" y="59"/>
                </a:lnTo>
                <a:lnTo>
                  <a:pt x="493" y="61"/>
                </a:lnTo>
                <a:lnTo>
                  <a:pt x="504" y="65"/>
                </a:lnTo>
                <a:lnTo>
                  <a:pt x="515" y="70"/>
                </a:lnTo>
                <a:lnTo>
                  <a:pt x="527" y="76"/>
                </a:lnTo>
                <a:lnTo>
                  <a:pt x="538" y="82"/>
                </a:lnTo>
                <a:lnTo>
                  <a:pt x="548" y="90"/>
                </a:lnTo>
                <a:lnTo>
                  <a:pt x="559" y="95"/>
                </a:lnTo>
                <a:lnTo>
                  <a:pt x="569" y="103"/>
                </a:lnTo>
                <a:lnTo>
                  <a:pt x="580" y="109"/>
                </a:lnTo>
                <a:lnTo>
                  <a:pt x="590" y="116"/>
                </a:lnTo>
                <a:lnTo>
                  <a:pt x="599" y="124"/>
                </a:lnTo>
                <a:lnTo>
                  <a:pt x="609" y="132"/>
                </a:lnTo>
                <a:lnTo>
                  <a:pt x="619" y="139"/>
                </a:lnTo>
                <a:lnTo>
                  <a:pt x="628" y="147"/>
                </a:lnTo>
                <a:lnTo>
                  <a:pt x="638" y="154"/>
                </a:lnTo>
                <a:lnTo>
                  <a:pt x="649" y="162"/>
                </a:lnTo>
                <a:lnTo>
                  <a:pt x="659" y="170"/>
                </a:lnTo>
                <a:lnTo>
                  <a:pt x="676" y="183"/>
                </a:lnTo>
                <a:lnTo>
                  <a:pt x="693" y="198"/>
                </a:lnTo>
                <a:lnTo>
                  <a:pt x="710" y="214"/>
                </a:lnTo>
                <a:lnTo>
                  <a:pt x="729" y="229"/>
                </a:lnTo>
                <a:lnTo>
                  <a:pt x="747" y="244"/>
                </a:lnTo>
                <a:lnTo>
                  <a:pt x="764" y="259"/>
                </a:lnTo>
                <a:lnTo>
                  <a:pt x="781" y="276"/>
                </a:lnTo>
                <a:lnTo>
                  <a:pt x="800" y="294"/>
                </a:lnTo>
                <a:lnTo>
                  <a:pt x="817" y="311"/>
                </a:lnTo>
                <a:lnTo>
                  <a:pt x="834" y="328"/>
                </a:lnTo>
                <a:lnTo>
                  <a:pt x="852" y="345"/>
                </a:lnTo>
                <a:lnTo>
                  <a:pt x="871" y="364"/>
                </a:lnTo>
                <a:lnTo>
                  <a:pt x="888" y="381"/>
                </a:lnTo>
                <a:lnTo>
                  <a:pt x="905" y="399"/>
                </a:lnTo>
                <a:lnTo>
                  <a:pt x="922" y="418"/>
                </a:lnTo>
                <a:lnTo>
                  <a:pt x="939" y="435"/>
                </a:lnTo>
                <a:lnTo>
                  <a:pt x="955" y="450"/>
                </a:lnTo>
                <a:lnTo>
                  <a:pt x="970" y="465"/>
                </a:lnTo>
                <a:lnTo>
                  <a:pt x="985" y="481"/>
                </a:lnTo>
                <a:lnTo>
                  <a:pt x="999" y="496"/>
                </a:lnTo>
                <a:lnTo>
                  <a:pt x="1012" y="511"/>
                </a:lnTo>
                <a:lnTo>
                  <a:pt x="1025" y="526"/>
                </a:lnTo>
                <a:lnTo>
                  <a:pt x="1039" y="542"/>
                </a:lnTo>
                <a:lnTo>
                  <a:pt x="1052" y="555"/>
                </a:lnTo>
                <a:lnTo>
                  <a:pt x="1064" y="572"/>
                </a:lnTo>
                <a:lnTo>
                  <a:pt x="1077" y="585"/>
                </a:lnTo>
                <a:lnTo>
                  <a:pt x="1088" y="601"/>
                </a:lnTo>
                <a:lnTo>
                  <a:pt x="1102" y="616"/>
                </a:lnTo>
                <a:lnTo>
                  <a:pt x="1113" y="631"/>
                </a:lnTo>
                <a:lnTo>
                  <a:pt x="1125" y="646"/>
                </a:lnTo>
                <a:lnTo>
                  <a:pt x="1136" y="662"/>
                </a:lnTo>
                <a:lnTo>
                  <a:pt x="1148" y="677"/>
                </a:lnTo>
                <a:lnTo>
                  <a:pt x="1020" y="690"/>
                </a:lnTo>
                <a:lnTo>
                  <a:pt x="1020" y="690"/>
                </a:lnTo>
                <a:lnTo>
                  <a:pt x="1020" y="692"/>
                </a:lnTo>
                <a:lnTo>
                  <a:pt x="1018" y="694"/>
                </a:lnTo>
                <a:lnTo>
                  <a:pt x="1020" y="694"/>
                </a:lnTo>
                <a:lnTo>
                  <a:pt x="1027" y="694"/>
                </a:lnTo>
                <a:lnTo>
                  <a:pt x="1037" y="694"/>
                </a:lnTo>
                <a:lnTo>
                  <a:pt x="1046" y="694"/>
                </a:lnTo>
                <a:lnTo>
                  <a:pt x="1054" y="694"/>
                </a:lnTo>
                <a:lnTo>
                  <a:pt x="1064" y="694"/>
                </a:lnTo>
                <a:lnTo>
                  <a:pt x="1073" y="692"/>
                </a:lnTo>
                <a:lnTo>
                  <a:pt x="1083" y="692"/>
                </a:lnTo>
                <a:lnTo>
                  <a:pt x="1092" y="692"/>
                </a:lnTo>
                <a:lnTo>
                  <a:pt x="1100" y="692"/>
                </a:lnTo>
                <a:lnTo>
                  <a:pt x="1109" y="692"/>
                </a:lnTo>
                <a:lnTo>
                  <a:pt x="1119" y="692"/>
                </a:lnTo>
                <a:lnTo>
                  <a:pt x="1128" y="692"/>
                </a:lnTo>
                <a:lnTo>
                  <a:pt x="1136" y="692"/>
                </a:lnTo>
                <a:lnTo>
                  <a:pt x="1146" y="692"/>
                </a:lnTo>
                <a:lnTo>
                  <a:pt x="1155" y="692"/>
                </a:lnTo>
                <a:lnTo>
                  <a:pt x="1163" y="694"/>
                </a:lnTo>
                <a:lnTo>
                  <a:pt x="1174" y="708"/>
                </a:lnTo>
                <a:lnTo>
                  <a:pt x="1186" y="721"/>
                </a:lnTo>
                <a:lnTo>
                  <a:pt x="1197" y="734"/>
                </a:lnTo>
                <a:lnTo>
                  <a:pt x="1207" y="748"/>
                </a:lnTo>
                <a:lnTo>
                  <a:pt x="1218" y="761"/>
                </a:lnTo>
                <a:lnTo>
                  <a:pt x="1230" y="776"/>
                </a:lnTo>
                <a:lnTo>
                  <a:pt x="1239" y="790"/>
                </a:lnTo>
                <a:lnTo>
                  <a:pt x="1251" y="803"/>
                </a:lnTo>
                <a:lnTo>
                  <a:pt x="1247" y="807"/>
                </a:lnTo>
                <a:lnTo>
                  <a:pt x="1241" y="809"/>
                </a:lnTo>
                <a:lnTo>
                  <a:pt x="1237" y="810"/>
                </a:lnTo>
                <a:lnTo>
                  <a:pt x="1232" y="812"/>
                </a:lnTo>
                <a:lnTo>
                  <a:pt x="1224" y="814"/>
                </a:lnTo>
                <a:lnTo>
                  <a:pt x="1218" y="814"/>
                </a:lnTo>
                <a:lnTo>
                  <a:pt x="1214" y="816"/>
                </a:lnTo>
                <a:lnTo>
                  <a:pt x="1207" y="818"/>
                </a:lnTo>
                <a:lnTo>
                  <a:pt x="1188" y="818"/>
                </a:lnTo>
                <a:lnTo>
                  <a:pt x="1169" y="820"/>
                </a:lnTo>
                <a:lnTo>
                  <a:pt x="1149" y="818"/>
                </a:lnTo>
                <a:lnTo>
                  <a:pt x="1130" y="814"/>
                </a:lnTo>
                <a:lnTo>
                  <a:pt x="1113" y="809"/>
                </a:lnTo>
                <a:lnTo>
                  <a:pt x="1096" y="803"/>
                </a:lnTo>
                <a:lnTo>
                  <a:pt x="1081" y="797"/>
                </a:lnTo>
                <a:lnTo>
                  <a:pt x="1064" y="788"/>
                </a:lnTo>
                <a:lnTo>
                  <a:pt x="1048" y="780"/>
                </a:lnTo>
                <a:lnTo>
                  <a:pt x="1035" y="770"/>
                </a:lnTo>
                <a:lnTo>
                  <a:pt x="1020" y="759"/>
                </a:lnTo>
                <a:lnTo>
                  <a:pt x="1006" y="749"/>
                </a:lnTo>
                <a:lnTo>
                  <a:pt x="991" y="740"/>
                </a:lnTo>
                <a:lnTo>
                  <a:pt x="978" y="728"/>
                </a:lnTo>
                <a:lnTo>
                  <a:pt x="964" y="719"/>
                </a:lnTo>
                <a:lnTo>
                  <a:pt x="951" y="709"/>
                </a:lnTo>
                <a:lnTo>
                  <a:pt x="960" y="696"/>
                </a:lnTo>
                <a:lnTo>
                  <a:pt x="968" y="683"/>
                </a:lnTo>
                <a:lnTo>
                  <a:pt x="978" y="671"/>
                </a:lnTo>
                <a:lnTo>
                  <a:pt x="989" y="658"/>
                </a:lnTo>
                <a:lnTo>
                  <a:pt x="999" y="646"/>
                </a:lnTo>
                <a:lnTo>
                  <a:pt x="1008" y="633"/>
                </a:lnTo>
                <a:lnTo>
                  <a:pt x="1020" y="622"/>
                </a:lnTo>
                <a:lnTo>
                  <a:pt x="1033" y="608"/>
                </a:lnTo>
                <a:lnTo>
                  <a:pt x="1033" y="606"/>
                </a:lnTo>
                <a:lnTo>
                  <a:pt x="1033" y="605"/>
                </a:lnTo>
                <a:lnTo>
                  <a:pt x="1033" y="603"/>
                </a:lnTo>
                <a:lnTo>
                  <a:pt x="1033" y="599"/>
                </a:lnTo>
                <a:lnTo>
                  <a:pt x="1033" y="599"/>
                </a:lnTo>
                <a:lnTo>
                  <a:pt x="1033" y="595"/>
                </a:lnTo>
                <a:lnTo>
                  <a:pt x="1029" y="593"/>
                </a:lnTo>
                <a:lnTo>
                  <a:pt x="1027" y="591"/>
                </a:lnTo>
                <a:lnTo>
                  <a:pt x="1016" y="605"/>
                </a:lnTo>
                <a:lnTo>
                  <a:pt x="1004" y="618"/>
                </a:lnTo>
                <a:lnTo>
                  <a:pt x="993" y="631"/>
                </a:lnTo>
                <a:lnTo>
                  <a:pt x="981" y="645"/>
                </a:lnTo>
                <a:lnTo>
                  <a:pt x="972" y="658"/>
                </a:lnTo>
                <a:lnTo>
                  <a:pt x="962" y="673"/>
                </a:lnTo>
                <a:lnTo>
                  <a:pt x="951" y="687"/>
                </a:lnTo>
                <a:lnTo>
                  <a:pt x="939" y="698"/>
                </a:lnTo>
                <a:lnTo>
                  <a:pt x="939" y="700"/>
                </a:lnTo>
                <a:lnTo>
                  <a:pt x="937" y="702"/>
                </a:lnTo>
                <a:lnTo>
                  <a:pt x="936" y="702"/>
                </a:lnTo>
                <a:lnTo>
                  <a:pt x="934" y="704"/>
                </a:lnTo>
                <a:lnTo>
                  <a:pt x="913" y="690"/>
                </a:lnTo>
                <a:lnTo>
                  <a:pt x="909" y="690"/>
                </a:lnTo>
                <a:lnTo>
                  <a:pt x="903" y="688"/>
                </a:lnTo>
                <a:lnTo>
                  <a:pt x="899" y="687"/>
                </a:lnTo>
                <a:lnTo>
                  <a:pt x="894" y="685"/>
                </a:lnTo>
                <a:lnTo>
                  <a:pt x="890" y="683"/>
                </a:lnTo>
                <a:lnTo>
                  <a:pt x="886" y="681"/>
                </a:lnTo>
                <a:lnTo>
                  <a:pt x="880" y="679"/>
                </a:lnTo>
                <a:lnTo>
                  <a:pt x="876" y="677"/>
                </a:lnTo>
                <a:lnTo>
                  <a:pt x="867" y="673"/>
                </a:lnTo>
                <a:lnTo>
                  <a:pt x="855" y="671"/>
                </a:lnTo>
                <a:lnTo>
                  <a:pt x="846" y="667"/>
                </a:lnTo>
                <a:lnTo>
                  <a:pt x="836" y="666"/>
                </a:lnTo>
                <a:lnTo>
                  <a:pt x="827" y="664"/>
                </a:lnTo>
                <a:lnTo>
                  <a:pt x="817" y="662"/>
                </a:lnTo>
                <a:lnTo>
                  <a:pt x="806" y="662"/>
                </a:lnTo>
                <a:lnTo>
                  <a:pt x="796" y="662"/>
                </a:lnTo>
                <a:lnTo>
                  <a:pt x="787" y="662"/>
                </a:lnTo>
                <a:lnTo>
                  <a:pt x="775" y="662"/>
                </a:lnTo>
                <a:lnTo>
                  <a:pt x="766" y="664"/>
                </a:lnTo>
                <a:lnTo>
                  <a:pt x="756" y="664"/>
                </a:lnTo>
                <a:lnTo>
                  <a:pt x="747" y="667"/>
                </a:lnTo>
                <a:lnTo>
                  <a:pt x="737" y="669"/>
                </a:lnTo>
                <a:lnTo>
                  <a:pt x="727" y="673"/>
                </a:lnTo>
                <a:lnTo>
                  <a:pt x="716" y="677"/>
                </a:lnTo>
                <a:lnTo>
                  <a:pt x="712" y="679"/>
                </a:lnTo>
                <a:lnTo>
                  <a:pt x="708" y="681"/>
                </a:lnTo>
                <a:lnTo>
                  <a:pt x="705" y="683"/>
                </a:lnTo>
                <a:lnTo>
                  <a:pt x="701" y="685"/>
                </a:lnTo>
                <a:lnTo>
                  <a:pt x="687" y="692"/>
                </a:lnTo>
                <a:lnTo>
                  <a:pt x="674" y="702"/>
                </a:lnTo>
                <a:lnTo>
                  <a:pt x="662" y="711"/>
                </a:lnTo>
                <a:lnTo>
                  <a:pt x="653" y="721"/>
                </a:lnTo>
                <a:lnTo>
                  <a:pt x="641" y="732"/>
                </a:lnTo>
                <a:lnTo>
                  <a:pt x="634" y="744"/>
                </a:lnTo>
                <a:lnTo>
                  <a:pt x="626" y="757"/>
                </a:lnTo>
                <a:lnTo>
                  <a:pt x="619" y="772"/>
                </a:lnTo>
                <a:lnTo>
                  <a:pt x="615" y="784"/>
                </a:lnTo>
                <a:lnTo>
                  <a:pt x="611" y="793"/>
                </a:lnTo>
                <a:lnTo>
                  <a:pt x="607" y="805"/>
                </a:lnTo>
                <a:lnTo>
                  <a:pt x="603" y="816"/>
                </a:lnTo>
                <a:lnTo>
                  <a:pt x="603" y="820"/>
                </a:lnTo>
                <a:lnTo>
                  <a:pt x="601" y="824"/>
                </a:lnTo>
                <a:lnTo>
                  <a:pt x="601" y="828"/>
                </a:lnTo>
                <a:lnTo>
                  <a:pt x="601" y="830"/>
                </a:lnTo>
                <a:lnTo>
                  <a:pt x="611" y="830"/>
                </a:lnTo>
                <a:lnTo>
                  <a:pt x="619" y="830"/>
                </a:lnTo>
                <a:lnTo>
                  <a:pt x="628" y="828"/>
                </a:lnTo>
                <a:lnTo>
                  <a:pt x="636" y="828"/>
                </a:lnTo>
                <a:lnTo>
                  <a:pt x="645" y="828"/>
                </a:lnTo>
                <a:lnTo>
                  <a:pt x="655" y="828"/>
                </a:lnTo>
                <a:lnTo>
                  <a:pt x="662" y="828"/>
                </a:lnTo>
                <a:lnTo>
                  <a:pt x="672" y="828"/>
                </a:lnTo>
                <a:lnTo>
                  <a:pt x="682" y="828"/>
                </a:lnTo>
                <a:lnTo>
                  <a:pt x="691" y="828"/>
                </a:lnTo>
                <a:lnTo>
                  <a:pt x="699" y="828"/>
                </a:lnTo>
                <a:lnTo>
                  <a:pt x="708" y="830"/>
                </a:lnTo>
                <a:lnTo>
                  <a:pt x="716" y="831"/>
                </a:lnTo>
                <a:lnTo>
                  <a:pt x="726" y="835"/>
                </a:lnTo>
                <a:lnTo>
                  <a:pt x="733" y="837"/>
                </a:lnTo>
                <a:lnTo>
                  <a:pt x="741" y="841"/>
                </a:lnTo>
                <a:lnTo>
                  <a:pt x="750" y="843"/>
                </a:lnTo>
                <a:lnTo>
                  <a:pt x="758" y="847"/>
                </a:lnTo>
                <a:lnTo>
                  <a:pt x="768" y="851"/>
                </a:lnTo>
                <a:lnTo>
                  <a:pt x="775" y="854"/>
                </a:lnTo>
                <a:lnTo>
                  <a:pt x="783" y="858"/>
                </a:lnTo>
                <a:lnTo>
                  <a:pt x="790" y="862"/>
                </a:lnTo>
                <a:lnTo>
                  <a:pt x="798" y="868"/>
                </a:lnTo>
                <a:lnTo>
                  <a:pt x="806" y="872"/>
                </a:lnTo>
                <a:lnTo>
                  <a:pt x="806" y="873"/>
                </a:lnTo>
                <a:lnTo>
                  <a:pt x="806" y="875"/>
                </a:lnTo>
                <a:lnTo>
                  <a:pt x="808" y="877"/>
                </a:lnTo>
                <a:lnTo>
                  <a:pt x="808" y="879"/>
                </a:lnTo>
                <a:lnTo>
                  <a:pt x="691" y="1049"/>
                </a:lnTo>
                <a:lnTo>
                  <a:pt x="666" y="1085"/>
                </a:lnTo>
                <a:lnTo>
                  <a:pt x="645" y="1085"/>
                </a:lnTo>
                <a:lnTo>
                  <a:pt x="622" y="1083"/>
                </a:lnTo>
                <a:lnTo>
                  <a:pt x="601" y="1081"/>
                </a:lnTo>
                <a:lnTo>
                  <a:pt x="578" y="1079"/>
                </a:lnTo>
                <a:lnTo>
                  <a:pt x="556" y="1078"/>
                </a:lnTo>
                <a:lnTo>
                  <a:pt x="533" y="1076"/>
                </a:lnTo>
                <a:lnTo>
                  <a:pt x="510" y="1074"/>
                </a:lnTo>
                <a:lnTo>
                  <a:pt x="489" y="1070"/>
                </a:lnTo>
                <a:lnTo>
                  <a:pt x="466" y="1068"/>
                </a:lnTo>
                <a:lnTo>
                  <a:pt x="443" y="1064"/>
                </a:lnTo>
                <a:lnTo>
                  <a:pt x="420" y="1060"/>
                </a:lnTo>
                <a:lnTo>
                  <a:pt x="397" y="1058"/>
                </a:lnTo>
                <a:lnTo>
                  <a:pt x="374" y="1055"/>
                </a:lnTo>
                <a:lnTo>
                  <a:pt x="353" y="1051"/>
                </a:lnTo>
                <a:lnTo>
                  <a:pt x="330" y="1047"/>
                </a:lnTo>
                <a:lnTo>
                  <a:pt x="307" y="1043"/>
                </a:lnTo>
                <a:lnTo>
                  <a:pt x="302" y="1041"/>
                </a:lnTo>
                <a:lnTo>
                  <a:pt x="296" y="1039"/>
                </a:lnTo>
                <a:lnTo>
                  <a:pt x="290" y="1037"/>
                </a:lnTo>
                <a:lnTo>
                  <a:pt x="282" y="1037"/>
                </a:lnTo>
                <a:lnTo>
                  <a:pt x="277" y="1036"/>
                </a:lnTo>
                <a:lnTo>
                  <a:pt x="271" y="1034"/>
                </a:lnTo>
                <a:lnTo>
                  <a:pt x="265" y="1032"/>
                </a:lnTo>
                <a:lnTo>
                  <a:pt x="260" y="1032"/>
                </a:lnTo>
                <a:lnTo>
                  <a:pt x="254" y="1030"/>
                </a:lnTo>
                <a:lnTo>
                  <a:pt x="246" y="1030"/>
                </a:lnTo>
                <a:lnTo>
                  <a:pt x="240" y="1028"/>
                </a:lnTo>
                <a:lnTo>
                  <a:pt x="235" y="1026"/>
                </a:lnTo>
                <a:lnTo>
                  <a:pt x="229" y="1026"/>
                </a:lnTo>
                <a:lnTo>
                  <a:pt x="223" y="1024"/>
                </a:lnTo>
                <a:lnTo>
                  <a:pt x="218" y="1022"/>
                </a:lnTo>
                <a:lnTo>
                  <a:pt x="210" y="1020"/>
                </a:lnTo>
                <a:lnTo>
                  <a:pt x="200" y="1018"/>
                </a:lnTo>
                <a:lnTo>
                  <a:pt x="189" y="1015"/>
                </a:lnTo>
                <a:lnTo>
                  <a:pt x="177" y="1011"/>
                </a:lnTo>
                <a:lnTo>
                  <a:pt x="166" y="1007"/>
                </a:lnTo>
                <a:lnTo>
                  <a:pt x="155" y="1003"/>
                </a:lnTo>
                <a:lnTo>
                  <a:pt x="143" y="999"/>
                </a:lnTo>
                <a:lnTo>
                  <a:pt x="132" y="996"/>
                </a:lnTo>
                <a:lnTo>
                  <a:pt x="122" y="992"/>
                </a:lnTo>
                <a:lnTo>
                  <a:pt x="111" y="986"/>
                </a:lnTo>
                <a:lnTo>
                  <a:pt x="101" y="982"/>
                </a:lnTo>
                <a:lnTo>
                  <a:pt x="90" y="976"/>
                </a:lnTo>
                <a:lnTo>
                  <a:pt x="80" y="971"/>
                </a:lnTo>
                <a:lnTo>
                  <a:pt x="70" y="965"/>
                </a:lnTo>
                <a:lnTo>
                  <a:pt x="63" y="959"/>
                </a:lnTo>
                <a:lnTo>
                  <a:pt x="53" y="952"/>
                </a:lnTo>
                <a:lnTo>
                  <a:pt x="46" y="946"/>
                </a:lnTo>
                <a:lnTo>
                  <a:pt x="40" y="933"/>
                </a:lnTo>
                <a:lnTo>
                  <a:pt x="36" y="919"/>
                </a:lnTo>
                <a:lnTo>
                  <a:pt x="36" y="904"/>
                </a:lnTo>
                <a:lnTo>
                  <a:pt x="40" y="893"/>
                </a:lnTo>
                <a:lnTo>
                  <a:pt x="48" y="885"/>
                </a:lnTo>
                <a:lnTo>
                  <a:pt x="55" y="877"/>
                </a:lnTo>
                <a:lnTo>
                  <a:pt x="63" y="870"/>
                </a:lnTo>
                <a:lnTo>
                  <a:pt x="72" y="864"/>
                </a:lnTo>
                <a:lnTo>
                  <a:pt x="82" y="858"/>
                </a:lnTo>
                <a:lnTo>
                  <a:pt x="91" y="852"/>
                </a:lnTo>
                <a:lnTo>
                  <a:pt x="101" y="847"/>
                </a:lnTo>
                <a:lnTo>
                  <a:pt x="111" y="843"/>
                </a:lnTo>
                <a:lnTo>
                  <a:pt x="120" y="837"/>
                </a:lnTo>
                <a:lnTo>
                  <a:pt x="130" y="833"/>
                </a:lnTo>
                <a:lnTo>
                  <a:pt x="139" y="830"/>
                </a:lnTo>
                <a:lnTo>
                  <a:pt x="151" y="826"/>
                </a:lnTo>
                <a:lnTo>
                  <a:pt x="160" y="822"/>
                </a:lnTo>
                <a:lnTo>
                  <a:pt x="170" y="818"/>
                </a:lnTo>
                <a:lnTo>
                  <a:pt x="179" y="812"/>
                </a:lnTo>
                <a:lnTo>
                  <a:pt x="189" y="809"/>
                </a:lnTo>
                <a:lnTo>
                  <a:pt x="210" y="803"/>
                </a:lnTo>
                <a:lnTo>
                  <a:pt x="229" y="797"/>
                </a:lnTo>
                <a:lnTo>
                  <a:pt x="248" y="790"/>
                </a:lnTo>
                <a:lnTo>
                  <a:pt x="269" y="784"/>
                </a:lnTo>
                <a:lnTo>
                  <a:pt x="288" y="778"/>
                </a:lnTo>
                <a:lnTo>
                  <a:pt x="307" y="774"/>
                </a:lnTo>
                <a:lnTo>
                  <a:pt x="328" y="769"/>
                </a:lnTo>
                <a:lnTo>
                  <a:pt x="347" y="763"/>
                </a:lnTo>
                <a:lnTo>
                  <a:pt x="368" y="759"/>
                </a:lnTo>
                <a:lnTo>
                  <a:pt x="387" y="755"/>
                </a:lnTo>
                <a:lnTo>
                  <a:pt x="409" y="751"/>
                </a:lnTo>
                <a:lnTo>
                  <a:pt x="428" y="746"/>
                </a:lnTo>
                <a:lnTo>
                  <a:pt x="447" y="744"/>
                </a:lnTo>
                <a:lnTo>
                  <a:pt x="468" y="740"/>
                </a:lnTo>
                <a:lnTo>
                  <a:pt x="487" y="736"/>
                </a:lnTo>
                <a:lnTo>
                  <a:pt x="508" y="732"/>
                </a:lnTo>
                <a:lnTo>
                  <a:pt x="514" y="730"/>
                </a:lnTo>
                <a:lnTo>
                  <a:pt x="521" y="728"/>
                </a:lnTo>
                <a:lnTo>
                  <a:pt x="529" y="728"/>
                </a:lnTo>
                <a:lnTo>
                  <a:pt x="536" y="728"/>
                </a:lnTo>
                <a:lnTo>
                  <a:pt x="544" y="727"/>
                </a:lnTo>
                <a:lnTo>
                  <a:pt x="552" y="727"/>
                </a:lnTo>
                <a:lnTo>
                  <a:pt x="559" y="727"/>
                </a:lnTo>
                <a:lnTo>
                  <a:pt x="567" y="725"/>
                </a:lnTo>
                <a:lnTo>
                  <a:pt x="573" y="725"/>
                </a:lnTo>
                <a:lnTo>
                  <a:pt x="580" y="723"/>
                </a:lnTo>
                <a:lnTo>
                  <a:pt x="588" y="721"/>
                </a:lnTo>
                <a:lnTo>
                  <a:pt x="594" y="719"/>
                </a:lnTo>
                <a:lnTo>
                  <a:pt x="601" y="717"/>
                </a:lnTo>
                <a:lnTo>
                  <a:pt x="607" y="713"/>
                </a:lnTo>
                <a:lnTo>
                  <a:pt x="613" y="709"/>
                </a:lnTo>
                <a:lnTo>
                  <a:pt x="617" y="706"/>
                </a:lnTo>
                <a:lnTo>
                  <a:pt x="599" y="706"/>
                </a:lnTo>
                <a:lnTo>
                  <a:pt x="580" y="709"/>
                </a:lnTo>
                <a:lnTo>
                  <a:pt x="561" y="711"/>
                </a:lnTo>
                <a:lnTo>
                  <a:pt x="542" y="713"/>
                </a:lnTo>
                <a:lnTo>
                  <a:pt x="523" y="715"/>
                </a:lnTo>
                <a:lnTo>
                  <a:pt x="504" y="719"/>
                </a:lnTo>
                <a:lnTo>
                  <a:pt x="485" y="721"/>
                </a:lnTo>
                <a:lnTo>
                  <a:pt x="466" y="725"/>
                </a:lnTo>
                <a:lnTo>
                  <a:pt x="447" y="728"/>
                </a:lnTo>
                <a:lnTo>
                  <a:pt x="428" y="730"/>
                </a:lnTo>
                <a:lnTo>
                  <a:pt x="409" y="734"/>
                </a:lnTo>
                <a:lnTo>
                  <a:pt x="389" y="738"/>
                </a:lnTo>
                <a:lnTo>
                  <a:pt x="370" y="742"/>
                </a:lnTo>
                <a:lnTo>
                  <a:pt x="351" y="744"/>
                </a:lnTo>
                <a:lnTo>
                  <a:pt x="332" y="748"/>
                </a:lnTo>
                <a:lnTo>
                  <a:pt x="313" y="751"/>
                </a:lnTo>
                <a:lnTo>
                  <a:pt x="300" y="755"/>
                </a:lnTo>
                <a:lnTo>
                  <a:pt x="286" y="759"/>
                </a:lnTo>
                <a:lnTo>
                  <a:pt x="273" y="763"/>
                </a:lnTo>
                <a:lnTo>
                  <a:pt x="258" y="765"/>
                </a:lnTo>
                <a:lnTo>
                  <a:pt x="244" y="769"/>
                </a:lnTo>
                <a:lnTo>
                  <a:pt x="231" y="772"/>
                </a:lnTo>
                <a:lnTo>
                  <a:pt x="218" y="776"/>
                </a:lnTo>
                <a:lnTo>
                  <a:pt x="202" y="780"/>
                </a:lnTo>
                <a:lnTo>
                  <a:pt x="189" y="784"/>
                </a:lnTo>
                <a:lnTo>
                  <a:pt x="176" y="788"/>
                </a:lnTo>
                <a:lnTo>
                  <a:pt x="162" y="791"/>
                </a:lnTo>
                <a:lnTo>
                  <a:pt x="149" y="797"/>
                </a:lnTo>
                <a:lnTo>
                  <a:pt x="135" y="801"/>
                </a:lnTo>
                <a:lnTo>
                  <a:pt x="122" y="807"/>
                </a:lnTo>
                <a:lnTo>
                  <a:pt x="111" y="810"/>
                </a:lnTo>
                <a:lnTo>
                  <a:pt x="97" y="816"/>
                </a:lnTo>
                <a:lnTo>
                  <a:pt x="91" y="820"/>
                </a:lnTo>
                <a:lnTo>
                  <a:pt x="84" y="822"/>
                </a:lnTo>
                <a:lnTo>
                  <a:pt x="76" y="828"/>
                </a:lnTo>
                <a:lnTo>
                  <a:pt x="70" y="830"/>
                </a:lnTo>
                <a:lnTo>
                  <a:pt x="63" y="835"/>
                </a:lnTo>
                <a:lnTo>
                  <a:pt x="55" y="839"/>
                </a:lnTo>
                <a:lnTo>
                  <a:pt x="49" y="843"/>
                </a:lnTo>
                <a:lnTo>
                  <a:pt x="42" y="847"/>
                </a:lnTo>
                <a:lnTo>
                  <a:pt x="36" y="852"/>
                </a:lnTo>
                <a:lnTo>
                  <a:pt x="30" y="856"/>
                </a:lnTo>
                <a:lnTo>
                  <a:pt x="25" y="862"/>
                </a:lnTo>
                <a:lnTo>
                  <a:pt x="19" y="868"/>
                </a:lnTo>
                <a:lnTo>
                  <a:pt x="13" y="875"/>
                </a:lnTo>
                <a:lnTo>
                  <a:pt x="9" y="881"/>
                </a:lnTo>
                <a:lnTo>
                  <a:pt x="6" y="889"/>
                </a:lnTo>
                <a:lnTo>
                  <a:pt x="4" y="896"/>
                </a:lnTo>
                <a:lnTo>
                  <a:pt x="2" y="906"/>
                </a:lnTo>
                <a:lnTo>
                  <a:pt x="0" y="915"/>
                </a:lnTo>
                <a:lnTo>
                  <a:pt x="2" y="925"/>
                </a:lnTo>
                <a:lnTo>
                  <a:pt x="4" y="934"/>
                </a:lnTo>
                <a:lnTo>
                  <a:pt x="6" y="944"/>
                </a:lnTo>
                <a:lnTo>
                  <a:pt x="9" y="954"/>
                </a:lnTo>
                <a:lnTo>
                  <a:pt x="13" y="961"/>
                </a:lnTo>
                <a:lnTo>
                  <a:pt x="19" y="969"/>
                </a:lnTo>
                <a:lnTo>
                  <a:pt x="23" y="971"/>
                </a:lnTo>
                <a:lnTo>
                  <a:pt x="25" y="975"/>
                </a:lnTo>
                <a:lnTo>
                  <a:pt x="28" y="976"/>
                </a:lnTo>
                <a:lnTo>
                  <a:pt x="32" y="980"/>
                </a:lnTo>
                <a:lnTo>
                  <a:pt x="36" y="982"/>
                </a:lnTo>
                <a:lnTo>
                  <a:pt x="40" y="984"/>
                </a:lnTo>
                <a:lnTo>
                  <a:pt x="42" y="986"/>
                </a:lnTo>
                <a:lnTo>
                  <a:pt x="46" y="988"/>
                </a:lnTo>
                <a:lnTo>
                  <a:pt x="63" y="999"/>
                </a:lnTo>
                <a:lnTo>
                  <a:pt x="67" y="1001"/>
                </a:lnTo>
                <a:lnTo>
                  <a:pt x="70" y="1003"/>
                </a:lnTo>
                <a:lnTo>
                  <a:pt x="76" y="1005"/>
                </a:lnTo>
                <a:lnTo>
                  <a:pt x="80" y="1007"/>
                </a:lnTo>
                <a:lnTo>
                  <a:pt x="84" y="1007"/>
                </a:lnTo>
                <a:lnTo>
                  <a:pt x="90" y="1009"/>
                </a:lnTo>
                <a:lnTo>
                  <a:pt x="93" y="1011"/>
                </a:lnTo>
                <a:lnTo>
                  <a:pt x="97" y="1013"/>
                </a:lnTo>
                <a:lnTo>
                  <a:pt x="124" y="1022"/>
                </a:lnTo>
                <a:lnTo>
                  <a:pt x="149" y="1030"/>
                </a:lnTo>
                <a:lnTo>
                  <a:pt x="176" y="1037"/>
                </a:lnTo>
                <a:lnTo>
                  <a:pt x="200" y="1045"/>
                </a:lnTo>
                <a:lnTo>
                  <a:pt x="227" y="1051"/>
                </a:lnTo>
                <a:lnTo>
                  <a:pt x="252" y="1057"/>
                </a:lnTo>
                <a:lnTo>
                  <a:pt x="279" y="1062"/>
                </a:lnTo>
                <a:lnTo>
                  <a:pt x="303" y="1068"/>
                </a:lnTo>
                <a:lnTo>
                  <a:pt x="330" y="1072"/>
                </a:lnTo>
                <a:lnTo>
                  <a:pt x="357" y="1078"/>
                </a:lnTo>
                <a:lnTo>
                  <a:pt x="384" y="1081"/>
                </a:lnTo>
                <a:lnTo>
                  <a:pt x="409" y="1085"/>
                </a:lnTo>
                <a:lnTo>
                  <a:pt x="435" y="1087"/>
                </a:lnTo>
                <a:lnTo>
                  <a:pt x="462" y="1091"/>
                </a:lnTo>
                <a:lnTo>
                  <a:pt x="489" y="1093"/>
                </a:lnTo>
                <a:lnTo>
                  <a:pt x="514" y="1097"/>
                </a:lnTo>
                <a:lnTo>
                  <a:pt x="540" y="1098"/>
                </a:lnTo>
                <a:lnTo>
                  <a:pt x="567" y="1100"/>
                </a:lnTo>
                <a:lnTo>
                  <a:pt x="594" y="1102"/>
                </a:lnTo>
                <a:lnTo>
                  <a:pt x="619" y="1104"/>
                </a:lnTo>
                <a:lnTo>
                  <a:pt x="645" y="1106"/>
                </a:lnTo>
                <a:lnTo>
                  <a:pt x="672" y="1106"/>
                </a:lnTo>
                <a:lnTo>
                  <a:pt x="699" y="1108"/>
                </a:lnTo>
                <a:lnTo>
                  <a:pt x="726" y="1110"/>
                </a:lnTo>
                <a:lnTo>
                  <a:pt x="750" y="1110"/>
                </a:lnTo>
                <a:lnTo>
                  <a:pt x="777" y="1112"/>
                </a:lnTo>
                <a:lnTo>
                  <a:pt x="804" y="1114"/>
                </a:lnTo>
                <a:lnTo>
                  <a:pt x="829" y="1114"/>
                </a:lnTo>
                <a:lnTo>
                  <a:pt x="855" y="1116"/>
                </a:lnTo>
                <a:lnTo>
                  <a:pt x="882" y="1116"/>
                </a:lnTo>
                <a:lnTo>
                  <a:pt x="907" y="1118"/>
                </a:lnTo>
                <a:lnTo>
                  <a:pt x="934" y="1119"/>
                </a:lnTo>
                <a:lnTo>
                  <a:pt x="934" y="1144"/>
                </a:lnTo>
                <a:lnTo>
                  <a:pt x="932" y="1171"/>
                </a:lnTo>
                <a:lnTo>
                  <a:pt x="928" y="1198"/>
                </a:lnTo>
                <a:lnTo>
                  <a:pt x="924" y="1224"/>
                </a:lnTo>
                <a:lnTo>
                  <a:pt x="918" y="1247"/>
                </a:lnTo>
                <a:lnTo>
                  <a:pt x="911" y="1268"/>
                </a:lnTo>
                <a:lnTo>
                  <a:pt x="903" y="1287"/>
                </a:lnTo>
                <a:lnTo>
                  <a:pt x="895" y="1306"/>
                </a:lnTo>
                <a:lnTo>
                  <a:pt x="886" y="1325"/>
                </a:lnTo>
                <a:lnTo>
                  <a:pt x="876" y="1345"/>
                </a:lnTo>
                <a:lnTo>
                  <a:pt x="869" y="1364"/>
                </a:lnTo>
                <a:lnTo>
                  <a:pt x="861" y="1381"/>
                </a:lnTo>
                <a:lnTo>
                  <a:pt x="855" y="1392"/>
                </a:lnTo>
                <a:lnTo>
                  <a:pt x="848" y="1404"/>
                </a:lnTo>
                <a:lnTo>
                  <a:pt x="844" y="1413"/>
                </a:lnTo>
                <a:lnTo>
                  <a:pt x="836" y="1423"/>
                </a:lnTo>
                <a:lnTo>
                  <a:pt x="831" y="1432"/>
                </a:lnTo>
                <a:lnTo>
                  <a:pt x="825" y="1442"/>
                </a:lnTo>
                <a:lnTo>
                  <a:pt x="819" y="1451"/>
                </a:lnTo>
                <a:lnTo>
                  <a:pt x="813" y="1463"/>
                </a:lnTo>
                <a:lnTo>
                  <a:pt x="806" y="1474"/>
                </a:lnTo>
                <a:lnTo>
                  <a:pt x="798" y="1486"/>
                </a:lnTo>
                <a:lnTo>
                  <a:pt x="790" y="1497"/>
                </a:lnTo>
                <a:lnTo>
                  <a:pt x="781" y="1509"/>
                </a:lnTo>
                <a:lnTo>
                  <a:pt x="773" y="1520"/>
                </a:lnTo>
                <a:lnTo>
                  <a:pt x="766" y="1530"/>
                </a:lnTo>
                <a:lnTo>
                  <a:pt x="756" y="1541"/>
                </a:lnTo>
                <a:lnTo>
                  <a:pt x="748" y="1552"/>
                </a:lnTo>
                <a:lnTo>
                  <a:pt x="735" y="1568"/>
                </a:lnTo>
                <a:lnTo>
                  <a:pt x="722" y="1583"/>
                </a:lnTo>
                <a:lnTo>
                  <a:pt x="706" y="1600"/>
                </a:lnTo>
                <a:lnTo>
                  <a:pt x="693" y="1615"/>
                </a:lnTo>
                <a:lnTo>
                  <a:pt x="678" y="1631"/>
                </a:lnTo>
                <a:lnTo>
                  <a:pt x="662" y="1646"/>
                </a:lnTo>
                <a:lnTo>
                  <a:pt x="647" y="1661"/>
                </a:lnTo>
                <a:lnTo>
                  <a:pt x="632" y="1676"/>
                </a:lnTo>
                <a:lnTo>
                  <a:pt x="617" y="1690"/>
                </a:lnTo>
                <a:lnTo>
                  <a:pt x="601" y="1703"/>
                </a:lnTo>
                <a:lnTo>
                  <a:pt x="584" y="1716"/>
                </a:lnTo>
                <a:lnTo>
                  <a:pt x="569" y="1728"/>
                </a:lnTo>
                <a:lnTo>
                  <a:pt x="552" y="1739"/>
                </a:lnTo>
                <a:lnTo>
                  <a:pt x="535" y="1751"/>
                </a:lnTo>
                <a:lnTo>
                  <a:pt x="517" y="1760"/>
                </a:lnTo>
                <a:lnTo>
                  <a:pt x="500" y="1768"/>
                </a:lnTo>
                <a:lnTo>
                  <a:pt x="491" y="1768"/>
                </a:lnTo>
                <a:lnTo>
                  <a:pt x="483" y="1768"/>
                </a:lnTo>
                <a:lnTo>
                  <a:pt x="475" y="1768"/>
                </a:lnTo>
                <a:lnTo>
                  <a:pt x="468" y="1766"/>
                </a:lnTo>
                <a:lnTo>
                  <a:pt x="460" y="1764"/>
                </a:lnTo>
                <a:lnTo>
                  <a:pt x="454" y="1760"/>
                </a:lnTo>
                <a:lnTo>
                  <a:pt x="447" y="1755"/>
                </a:lnTo>
                <a:lnTo>
                  <a:pt x="443" y="1749"/>
                </a:lnTo>
                <a:lnTo>
                  <a:pt x="437" y="1728"/>
                </a:lnTo>
                <a:lnTo>
                  <a:pt x="435" y="1705"/>
                </a:lnTo>
                <a:lnTo>
                  <a:pt x="435" y="1682"/>
                </a:lnTo>
                <a:lnTo>
                  <a:pt x="437" y="1661"/>
                </a:lnTo>
                <a:lnTo>
                  <a:pt x="441" y="1638"/>
                </a:lnTo>
                <a:lnTo>
                  <a:pt x="445" y="1617"/>
                </a:lnTo>
                <a:lnTo>
                  <a:pt x="451" y="1594"/>
                </a:lnTo>
                <a:lnTo>
                  <a:pt x="458" y="1573"/>
                </a:lnTo>
                <a:lnTo>
                  <a:pt x="466" y="1552"/>
                </a:lnTo>
                <a:lnTo>
                  <a:pt x="475" y="1530"/>
                </a:lnTo>
                <a:lnTo>
                  <a:pt x="485" y="1509"/>
                </a:lnTo>
                <a:lnTo>
                  <a:pt x="493" y="1488"/>
                </a:lnTo>
                <a:lnTo>
                  <a:pt x="502" y="1467"/>
                </a:lnTo>
                <a:lnTo>
                  <a:pt x="510" y="1446"/>
                </a:lnTo>
                <a:lnTo>
                  <a:pt x="519" y="1425"/>
                </a:lnTo>
                <a:lnTo>
                  <a:pt x="527" y="1404"/>
                </a:lnTo>
                <a:lnTo>
                  <a:pt x="535" y="1386"/>
                </a:lnTo>
                <a:lnTo>
                  <a:pt x="542" y="1369"/>
                </a:lnTo>
                <a:lnTo>
                  <a:pt x="550" y="1352"/>
                </a:lnTo>
                <a:lnTo>
                  <a:pt x="559" y="1335"/>
                </a:lnTo>
                <a:lnTo>
                  <a:pt x="567" y="1318"/>
                </a:lnTo>
                <a:lnTo>
                  <a:pt x="575" y="1301"/>
                </a:lnTo>
                <a:lnTo>
                  <a:pt x="584" y="1284"/>
                </a:lnTo>
                <a:lnTo>
                  <a:pt x="592" y="1266"/>
                </a:lnTo>
                <a:lnTo>
                  <a:pt x="601" y="1249"/>
                </a:lnTo>
                <a:lnTo>
                  <a:pt x="609" y="1232"/>
                </a:lnTo>
                <a:lnTo>
                  <a:pt x="619" y="1217"/>
                </a:lnTo>
                <a:lnTo>
                  <a:pt x="626" y="1200"/>
                </a:lnTo>
                <a:lnTo>
                  <a:pt x="636" y="1182"/>
                </a:lnTo>
                <a:lnTo>
                  <a:pt x="643" y="1167"/>
                </a:lnTo>
                <a:lnTo>
                  <a:pt x="651" y="1150"/>
                </a:lnTo>
                <a:lnTo>
                  <a:pt x="661" y="1135"/>
                </a:lnTo>
                <a:lnTo>
                  <a:pt x="645" y="1135"/>
                </a:lnTo>
                <a:lnTo>
                  <a:pt x="630" y="1161"/>
                </a:lnTo>
                <a:lnTo>
                  <a:pt x="617" y="1186"/>
                </a:lnTo>
                <a:lnTo>
                  <a:pt x="601" y="1213"/>
                </a:lnTo>
                <a:lnTo>
                  <a:pt x="588" y="1238"/>
                </a:lnTo>
                <a:lnTo>
                  <a:pt x="573" y="1264"/>
                </a:lnTo>
                <a:lnTo>
                  <a:pt x="559" y="1291"/>
                </a:lnTo>
                <a:lnTo>
                  <a:pt x="546" y="1318"/>
                </a:lnTo>
                <a:lnTo>
                  <a:pt x="533" y="1346"/>
                </a:lnTo>
                <a:lnTo>
                  <a:pt x="519" y="1373"/>
                </a:lnTo>
                <a:lnTo>
                  <a:pt x="506" y="1402"/>
                </a:lnTo>
                <a:lnTo>
                  <a:pt x="493" y="1428"/>
                </a:lnTo>
                <a:lnTo>
                  <a:pt x="481" y="1457"/>
                </a:lnTo>
                <a:lnTo>
                  <a:pt x="468" y="1488"/>
                </a:lnTo>
                <a:lnTo>
                  <a:pt x="456" y="1516"/>
                </a:lnTo>
                <a:lnTo>
                  <a:pt x="445" y="1545"/>
                </a:lnTo>
                <a:lnTo>
                  <a:pt x="433" y="1575"/>
                </a:lnTo>
                <a:lnTo>
                  <a:pt x="428" y="1591"/>
                </a:lnTo>
                <a:lnTo>
                  <a:pt x="424" y="1606"/>
                </a:lnTo>
                <a:lnTo>
                  <a:pt x="418" y="1619"/>
                </a:lnTo>
                <a:lnTo>
                  <a:pt x="412" y="1634"/>
                </a:lnTo>
                <a:lnTo>
                  <a:pt x="409" y="1650"/>
                </a:lnTo>
                <a:lnTo>
                  <a:pt x="405" y="1665"/>
                </a:lnTo>
                <a:lnTo>
                  <a:pt x="401" y="1680"/>
                </a:lnTo>
                <a:lnTo>
                  <a:pt x="399" y="1695"/>
                </a:lnTo>
                <a:lnTo>
                  <a:pt x="399" y="1709"/>
                </a:lnTo>
                <a:lnTo>
                  <a:pt x="399" y="1722"/>
                </a:lnTo>
                <a:lnTo>
                  <a:pt x="399" y="1736"/>
                </a:lnTo>
                <a:lnTo>
                  <a:pt x="401" y="1747"/>
                </a:lnTo>
                <a:lnTo>
                  <a:pt x="405" y="1760"/>
                </a:lnTo>
                <a:lnTo>
                  <a:pt x="410" y="1772"/>
                </a:lnTo>
                <a:lnTo>
                  <a:pt x="418" y="1781"/>
                </a:lnTo>
                <a:lnTo>
                  <a:pt x="426" y="1791"/>
                </a:lnTo>
                <a:lnTo>
                  <a:pt x="431" y="1793"/>
                </a:lnTo>
                <a:lnTo>
                  <a:pt x="435" y="1797"/>
                </a:lnTo>
                <a:lnTo>
                  <a:pt x="439" y="1798"/>
                </a:lnTo>
                <a:lnTo>
                  <a:pt x="443" y="1800"/>
                </a:lnTo>
                <a:lnTo>
                  <a:pt x="449" y="1802"/>
                </a:lnTo>
                <a:lnTo>
                  <a:pt x="452" y="1804"/>
                </a:lnTo>
                <a:lnTo>
                  <a:pt x="458" y="1806"/>
                </a:lnTo>
                <a:lnTo>
                  <a:pt x="464" y="1806"/>
                </a:lnTo>
                <a:close/>
              </a:path>
            </a:pathLst>
          </a:custGeom>
          <a:solidFill>
            <a:srgbClr val="d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58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ank you 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F27-82B7-48E2-A4F5-954DCE8232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R:\Temporary Internet Files\Content.IE5\CNCVAOHF\MC900104966[1].wmf"/>
          <p:cNvPicPr/>
          <p:nvPr/>
        </p:nvPicPr>
        <p:blipFill>
          <a:blip r:embed="rId1"/>
          <a:stretch/>
        </p:blipFill>
        <p:spPr>
          <a:xfrm>
            <a:off x="6861240" y="3263760"/>
            <a:ext cx="1825560" cy="1820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1" name="Group 2"/>
          <p:cNvGrpSpPr/>
          <p:nvPr/>
        </p:nvGrpSpPr>
        <p:grpSpPr>
          <a:xfrm>
            <a:off x="865080" y="1870200"/>
            <a:ext cx="3908520" cy="830160"/>
            <a:chOff x="865080" y="1870200"/>
            <a:chExt cx="3908520" cy="830160"/>
          </a:xfrm>
        </p:grpSpPr>
        <p:grpSp>
          <p:nvGrpSpPr>
            <p:cNvPr id="52" name="Rectangle 16"/>
            <p:cNvGrpSpPr/>
            <p:nvPr/>
          </p:nvGrpSpPr>
          <p:grpSpPr>
            <a:xfrm>
              <a:off x="865080" y="1870200"/>
              <a:ext cx="3908520" cy="830160"/>
              <a:chOff x="865080" y="1870200"/>
              <a:chExt cx="3908520" cy="830160"/>
            </a:xfrm>
          </p:grpSpPr>
          <p:pic>
            <p:nvPicPr>
              <p:cNvPr id="53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865080" y="1870200"/>
                <a:ext cx="3908520" cy="83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909720" y="1915560"/>
                <a:ext cx="349776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TextBox 5"/>
            <p:cNvSpPr/>
            <p:nvPr/>
          </p:nvSpPr>
          <p:spPr>
            <a:xfrm>
              <a:off x="1337400" y="1982160"/>
              <a:ext cx="259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nistry of Economic Affai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3"/>
          <p:cNvGrpSpPr/>
          <p:nvPr/>
        </p:nvGrpSpPr>
        <p:grpSpPr>
          <a:xfrm>
            <a:off x="852480" y="2644920"/>
            <a:ext cx="3906720" cy="828360"/>
            <a:chOff x="852480" y="2644920"/>
            <a:chExt cx="3906720" cy="828360"/>
          </a:xfrm>
        </p:grpSpPr>
        <p:grpSp>
          <p:nvGrpSpPr>
            <p:cNvPr id="57" name="Rectangle 15"/>
            <p:cNvGrpSpPr/>
            <p:nvPr/>
          </p:nvGrpSpPr>
          <p:grpSpPr>
            <a:xfrm>
              <a:off x="852480" y="2644920"/>
              <a:ext cx="3906720" cy="828360"/>
              <a:chOff x="852480" y="2644920"/>
              <a:chExt cx="3906720" cy="828360"/>
            </a:xfrm>
          </p:grpSpPr>
          <p:pic>
            <p:nvPicPr>
              <p:cNvPr id="58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852480" y="2644920"/>
                <a:ext cx="390672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96040" y="2684520"/>
                <a:ext cx="3495960" cy="42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TextBox 9"/>
            <p:cNvSpPr/>
            <p:nvPr/>
          </p:nvSpPr>
          <p:spPr>
            <a:xfrm>
              <a:off x="1565280" y="2741760"/>
              <a:ext cx="214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omic Energy Counc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4"/>
          <p:cNvGrpSpPr/>
          <p:nvPr/>
        </p:nvGrpSpPr>
        <p:grpSpPr>
          <a:xfrm>
            <a:off x="835200" y="4151160"/>
            <a:ext cx="3908160" cy="828720"/>
            <a:chOff x="835200" y="4151160"/>
            <a:chExt cx="3908160" cy="828720"/>
          </a:xfrm>
        </p:grpSpPr>
        <p:grpSp>
          <p:nvGrpSpPr>
            <p:cNvPr id="62" name="Rectangle 14"/>
            <p:cNvGrpSpPr/>
            <p:nvPr/>
          </p:nvGrpSpPr>
          <p:grpSpPr>
            <a:xfrm>
              <a:off x="835200" y="4151160"/>
              <a:ext cx="3908160" cy="828720"/>
              <a:chOff x="835200" y="4151160"/>
              <a:chExt cx="3908160" cy="828720"/>
            </a:xfrm>
          </p:grpSpPr>
          <p:pic>
            <p:nvPicPr>
              <p:cNvPr id="63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835200" y="4151160"/>
                <a:ext cx="3908160" cy="8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878400" y="4193640"/>
                <a:ext cx="349740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TextBox 10"/>
            <p:cNvSpPr/>
            <p:nvPr/>
          </p:nvSpPr>
          <p:spPr>
            <a:xfrm>
              <a:off x="1479960" y="4269960"/>
              <a:ext cx="23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ional Science Counc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5"/>
          <p:cNvGrpSpPr/>
          <p:nvPr/>
        </p:nvGrpSpPr>
        <p:grpSpPr>
          <a:xfrm>
            <a:off x="784800" y="5049720"/>
            <a:ext cx="3926880" cy="830520"/>
            <a:chOff x="784800" y="5049720"/>
            <a:chExt cx="3926880" cy="830520"/>
          </a:xfrm>
        </p:grpSpPr>
        <p:grpSp>
          <p:nvGrpSpPr>
            <p:cNvPr id="67" name="Rectangle 6"/>
            <p:cNvGrpSpPr/>
            <p:nvPr/>
          </p:nvGrpSpPr>
          <p:grpSpPr>
            <a:xfrm>
              <a:off x="803880" y="5049720"/>
              <a:ext cx="3907800" cy="830520"/>
              <a:chOff x="803880" y="5049720"/>
              <a:chExt cx="3907800" cy="830520"/>
            </a:xfrm>
          </p:grpSpPr>
          <p:pic>
            <p:nvPicPr>
              <p:cNvPr id="68" name="Rectangl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803880" y="5049720"/>
                <a:ext cx="3907800" cy="83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846000" y="5093280"/>
                <a:ext cx="349704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TextBox 11"/>
            <p:cNvSpPr/>
            <p:nvPr/>
          </p:nvSpPr>
          <p:spPr>
            <a:xfrm>
              <a:off x="784800" y="5160240"/>
              <a:ext cx="365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vironmental Protection Administ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overnment Structur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Nuclear-rel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8104320" y="327492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4788000" y="1736640"/>
            <a:ext cx="28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Supervise NPPs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3276720" y="386064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uct nuclear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3"/>
          <p:cNvSpPr/>
          <p:nvPr/>
        </p:nvSpPr>
        <p:spPr>
          <a:xfrm>
            <a:off x="1757880" y="4670280"/>
            <a:ext cx="24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clear research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4"/>
          <p:cNvSpPr/>
          <p:nvPr/>
        </p:nvSpPr>
        <p:spPr>
          <a:xfrm>
            <a:off x="1332000" y="55785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impact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9"/>
          <p:cNvGrpSpPr/>
          <p:nvPr/>
        </p:nvGrpSpPr>
        <p:grpSpPr>
          <a:xfrm>
            <a:off x="6756480" y="2378160"/>
            <a:ext cx="2359080" cy="828720"/>
            <a:chOff x="6756480" y="2378160"/>
            <a:chExt cx="2359080" cy="828720"/>
          </a:xfrm>
        </p:grpSpPr>
        <p:grpSp>
          <p:nvGrpSpPr>
            <p:cNvPr id="78" name="Rectangle 26"/>
            <p:cNvGrpSpPr/>
            <p:nvPr/>
          </p:nvGrpSpPr>
          <p:grpSpPr>
            <a:xfrm>
              <a:off x="6756480" y="2378160"/>
              <a:ext cx="2359080" cy="828720"/>
              <a:chOff x="6756480" y="2378160"/>
              <a:chExt cx="2359080" cy="828720"/>
            </a:xfrm>
          </p:grpSpPr>
          <p:pic>
            <p:nvPicPr>
              <p:cNvPr id="79" name="Rectangle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6756480" y="2378160"/>
                <a:ext cx="2359080" cy="8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6798600" y="2421360"/>
                <a:ext cx="195120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Box 5"/>
            <p:cNvSpPr/>
            <p:nvPr/>
          </p:nvSpPr>
          <p:spPr>
            <a:xfrm>
              <a:off x="6838200" y="2487960"/>
              <a:ext cx="189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erprise Com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2" name="Elbow Connector 13"/>
          <p:cNvCxnSpPr>
            <a:stCxn id="54" idx="3"/>
            <a:endCxn id="80" idx="0"/>
          </p:cNvCxnSpPr>
          <p:nvPr/>
        </p:nvCxnSpPr>
        <p:spPr>
          <a:xfrm>
            <a:off x="4406760" y="2127240"/>
            <a:ext cx="3369600" cy="294480"/>
          </a:xfrm>
          <a:prstGeom prst="bentConnector2">
            <a:avLst/>
          </a:prstGeom>
          <a:ln w="19080">
            <a:solidFill>
              <a:srgbClr val="0000ff"/>
            </a:solidFill>
            <a:miter/>
          </a:ln>
        </p:spPr>
      </p:cxnSp>
      <p:grpSp>
        <p:nvGrpSpPr>
          <p:cNvPr id="83" name="Rectangle 38"/>
          <p:cNvGrpSpPr/>
          <p:nvPr/>
        </p:nvGrpSpPr>
        <p:grpSpPr>
          <a:xfrm>
            <a:off x="49320" y="1165320"/>
            <a:ext cx="1992240" cy="536400"/>
            <a:chOff x="49320" y="1165320"/>
            <a:chExt cx="1992240" cy="536400"/>
          </a:xfrm>
        </p:grpSpPr>
        <p:pic>
          <p:nvPicPr>
            <p:cNvPr id="84" name="Rectangle 38" descr=""/>
            <p:cNvPicPr/>
            <p:nvPr/>
          </p:nvPicPr>
          <p:blipFill>
            <a:blip r:embed="rId7"/>
            <a:stretch/>
          </p:blipFill>
          <p:spPr>
            <a:xfrm>
              <a:off x="49320" y="1165320"/>
              <a:ext cx="19922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8000" y="1197720"/>
              <a:ext cx="18712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9"/>
          <p:cNvSpPr/>
          <p:nvPr/>
        </p:nvSpPr>
        <p:spPr>
          <a:xfrm>
            <a:off x="183600" y="125424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ve Yu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2058"/>
          <p:cNvSpPr/>
          <p:nvPr/>
        </p:nvSpPr>
        <p:spPr>
          <a:xfrm flipH="1">
            <a:off x="7773480" y="2840040"/>
            <a:ext cx="9720" cy="4478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0120" y="1633680"/>
            <a:ext cx="14400" cy="46321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4520" y="2128680"/>
            <a:ext cx="5698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4800" y="2876400"/>
            <a:ext cx="5702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9840" y="4438800"/>
            <a:ext cx="5410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9840" y="5319720"/>
            <a:ext cx="5317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02080" y="2905200"/>
            <a:ext cx="21081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07000" y="2901960"/>
            <a:ext cx="5040" cy="13017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12040" y="4195800"/>
            <a:ext cx="3650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01920" y="3105000"/>
            <a:ext cx="4680" cy="468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771640" y="3371760"/>
            <a:ext cx="3400200" cy="476280"/>
            <a:chOff x="2771640" y="3371760"/>
            <a:chExt cx="3400200" cy="476280"/>
          </a:xfrm>
        </p:grpSpPr>
        <p:sp>
          <p:nvSpPr>
            <p:cNvPr id="98" name=""/>
            <p:cNvSpPr/>
            <p:nvPr/>
          </p:nvSpPr>
          <p:spPr>
            <a:xfrm>
              <a:off x="2771640" y="3371760"/>
              <a:ext cx="3400200" cy="476280"/>
            </a:xfrm>
            <a:prstGeom prst="flowChartAlternateProcess">
              <a:avLst/>
            </a:prstGeom>
            <a:gradFill rotWithShape="0">
              <a:gsLst>
                <a:gs pos="0">
                  <a:srgbClr val="cc99ff"/>
                </a:gs>
                <a:gs pos="50000">
                  <a:srgbClr val="ffffff"/>
                </a:gs>
                <a:gs pos="100000">
                  <a:srgbClr val="cc99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9"/>
            <p:cNvSpPr/>
            <p:nvPr/>
          </p:nvSpPr>
          <p:spPr>
            <a:xfrm>
              <a:off x="2844720" y="3468600"/>
              <a:ext cx="330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stitute of Nuclear Energy 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397240" y="3576600"/>
            <a:ext cx="3794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29240" y="2557440"/>
            <a:ext cx="18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ety overs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22240" y="5961240"/>
            <a:ext cx="3900240" cy="828360"/>
            <a:chOff x="822240" y="5961240"/>
            <a:chExt cx="3900240" cy="828360"/>
          </a:xfrm>
        </p:grpSpPr>
        <p:grpSp>
          <p:nvGrpSpPr>
            <p:cNvPr id="103" name="Rectangle 55"/>
            <p:cNvGrpSpPr/>
            <p:nvPr/>
          </p:nvGrpSpPr>
          <p:grpSpPr>
            <a:xfrm>
              <a:off x="822240" y="5961240"/>
              <a:ext cx="3900240" cy="828360"/>
              <a:chOff x="822240" y="5961240"/>
              <a:chExt cx="3900240" cy="828360"/>
            </a:xfrm>
          </p:grpSpPr>
          <p:pic>
            <p:nvPicPr>
              <p:cNvPr id="104" name="Rectangle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822240" y="5961240"/>
                <a:ext cx="39002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863280" y="6001920"/>
                <a:ext cx="349560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912960" y="6060960"/>
              <a:ext cx="3456000" cy="390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a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11"/>
            <p:cNvSpPr/>
            <p:nvPr/>
          </p:nvSpPr>
          <p:spPr>
            <a:xfrm>
              <a:off x="2166840" y="611964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th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25440" y="6267600"/>
            <a:ext cx="5936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677-FD00-4E44-A85A-422C600B7A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06640" y="1440000"/>
            <a:ext cx="7584840" cy="5127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71640" y="728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urrent AEC Organiz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C8B0-FEDB-458B-A43F-F75901938D2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2546280"/>
            <a:ext cx="6570720" cy="4044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80920" y="1042920"/>
            <a:ext cx="733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Arial"/>
              </a:rPr>
              <a:t>Government Re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D6B-EAF0-463B-A0EB-A5DB3734FC4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06280" y="1493640"/>
            <a:ext cx="864072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Amendments to the La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ing Organization of the Executive Yuan” passed in January 201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nd-tier ministrie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nd-tier minis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National Science Council + Atomic Energy Counci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Ministry of Science an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Technology (MO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Ministry of Economic Affair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Ministry of Economic and Energy Affai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015920" y="638280"/>
            <a:ext cx="70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Government Reform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1/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79D-0BE5-458F-84BE-4528778106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40920" y="1538280"/>
            <a:ext cx="828036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xecutive Yuan further confirmed in mid- 2010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Functions and resources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AE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HQs, FCMA, RMC and part of INER (supporting nuclear safety regulation) will b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under MO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All functions and resources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IN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except those supporting nuclear safety regulation will b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under MOE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orm started from January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015920" y="638280"/>
            <a:ext cx="70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Government Reform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2/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53E6-EDEF-4273-B857-339CB43624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449000"/>
            <a:ext cx="91440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The Executive Yuan modified the proposed nuclear regulatory body in late 2012: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Functions and resources of 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AEC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 HQs, FCMA, RMC and part of INER (supporting nuclear safety regulation) will be a 3</a:t>
            </a:r>
            <a:r>
              <a:rPr b="0" lang="zh-TW" sz="2600" spc="-1" strike="noStrike" baseline="30000">
                <a:solidFill>
                  <a:srgbClr val="000000"/>
                </a:solidFill>
                <a:latin typeface="Arial"/>
                <a:ea typeface="標楷體"/>
              </a:rPr>
              <a:t>rd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- tier independent 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Nuclear Safety Commission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All functions and resources of 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INER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 except those supporting nuclear safety regulation will still be 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under MOE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No permanent 3</a:t>
            </a:r>
            <a:r>
              <a:rPr b="0" lang="zh-TW" sz="2600" spc="-1" strike="noStrike" baseline="30000">
                <a:solidFill>
                  <a:srgbClr val="000000"/>
                </a:solidFill>
                <a:latin typeface="Arial"/>
                <a:ea typeface="標楷體"/>
              </a:rPr>
              <a:t>rd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-tier organization directly under Executive Yuan existed befo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015920" y="638280"/>
            <a:ext cx="70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Government Reform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3/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18E-E3C9-4486-8383-BDFE967EAC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252720" y="333000"/>
            <a:ext cx="9396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99"/>
                </a:solidFill>
                <a:latin typeface="Arial"/>
                <a:ea typeface="標楷體"/>
              </a:rPr>
              <a:t>   </a:t>
            </a:r>
            <a:r>
              <a:rPr b="1" lang="zh-TW" sz="3600" spc="-1" strike="noStrike">
                <a:solidFill>
                  <a:srgbClr val="333399"/>
                </a:solidFill>
                <a:latin typeface="Arial"/>
                <a:ea typeface="標楷體"/>
              </a:rPr>
              <a:t>Old Government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94320" y="3519360"/>
            <a:ext cx="1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86640" y="4649760"/>
            <a:ext cx="1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203640" y="1341360"/>
            <a:ext cx="2746080" cy="633600"/>
            <a:chOff x="3203640" y="1341360"/>
            <a:chExt cx="2746080" cy="633600"/>
          </a:xfrm>
        </p:grpSpPr>
        <p:sp>
          <p:nvSpPr>
            <p:cNvPr id="123" name=""/>
            <p:cNvSpPr/>
            <p:nvPr/>
          </p:nvSpPr>
          <p:spPr>
            <a:xfrm>
              <a:off x="3203640" y="1341360"/>
              <a:ext cx="2746080" cy="633600"/>
            </a:xfrm>
            <a:custGeom>
              <a:avLst/>
              <a:gdLst/>
              <a:ahLst/>
              <a:rect l="l" t="t" r="r" b="b"/>
              <a:pathLst>
                <a:path w="5929" h="768">
                  <a:moveTo>
                    <a:pt x="256" y="768"/>
                  </a:moveTo>
                  <a:lnTo>
                    <a:pt x="5673" y="768"/>
                  </a:lnTo>
                  <a:cubicBezTo>
                    <a:pt x="5815" y="768"/>
                    <a:pt x="5929" y="653"/>
                    <a:pt x="5929" y="512"/>
                  </a:cubicBezTo>
                  <a:cubicBezTo>
                    <a:pt x="5929" y="512"/>
                    <a:pt x="5929" y="512"/>
                    <a:pt x="5929" y="512"/>
                  </a:cubicBezTo>
                  <a:lnTo>
                    <a:pt x="5929" y="512"/>
                  </a:lnTo>
                  <a:lnTo>
                    <a:pt x="5929" y="256"/>
                  </a:lnTo>
                  <a:cubicBezTo>
                    <a:pt x="5929" y="115"/>
                    <a:pt x="5815" y="0"/>
                    <a:pt x="5673" y="0"/>
                  </a:cubicBezTo>
                  <a:lnTo>
                    <a:pt x="5673" y="0"/>
                  </a:lnTo>
                  <a:lnTo>
                    <a:pt x="256" y="0"/>
                  </a:lnTo>
                  <a:cubicBezTo>
                    <a:pt x="114" y="0"/>
                    <a:pt x="0" y="115"/>
                    <a:pt x="0" y="256"/>
                  </a:cubicBezTo>
                  <a:lnTo>
                    <a:pt x="0" y="256"/>
                  </a:lnTo>
                  <a:lnTo>
                    <a:pt x="0" y="512"/>
                  </a:lnTo>
                  <a:cubicBezTo>
                    <a:pt x="0" y="653"/>
                    <a:pt x="114" y="768"/>
                    <a:pt x="256" y="768"/>
                  </a:cubicBezTo>
                  <a:close/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90920" y="1501560"/>
              <a:ext cx="231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Executive Yu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473120" y="2597040"/>
            <a:ext cx="2377800" cy="846000"/>
            <a:chOff x="1473120" y="2597040"/>
            <a:chExt cx="2377800" cy="846000"/>
          </a:xfrm>
        </p:grpSpPr>
        <p:sp>
          <p:nvSpPr>
            <p:cNvPr id="126" name=""/>
            <p:cNvSpPr/>
            <p:nvPr/>
          </p:nvSpPr>
          <p:spPr>
            <a:xfrm>
              <a:off x="1473120" y="2597040"/>
              <a:ext cx="1981440" cy="846000"/>
            </a:xfrm>
            <a:custGeom>
              <a:avLst/>
              <a:gdLst/>
              <a:ahLst/>
              <a:rect l="l" t="t" r="r" b="b"/>
              <a:pathLst>
                <a:path w="3279" h="1256">
                  <a:moveTo>
                    <a:pt x="192" y="1256"/>
                  </a:moveTo>
                  <a:lnTo>
                    <a:pt x="3087" y="1256"/>
                  </a:lnTo>
                  <a:cubicBezTo>
                    <a:pt x="3193" y="1256"/>
                    <a:pt x="3279" y="1170"/>
                    <a:pt x="3279" y="1064"/>
                  </a:cubicBezTo>
                  <a:cubicBezTo>
                    <a:pt x="3279" y="1064"/>
                    <a:pt x="3279" y="1064"/>
                    <a:pt x="3279" y="1064"/>
                  </a:cubicBezTo>
                  <a:lnTo>
                    <a:pt x="3279" y="1064"/>
                  </a:lnTo>
                  <a:lnTo>
                    <a:pt x="3279" y="192"/>
                  </a:lnTo>
                  <a:cubicBezTo>
                    <a:pt x="3279" y="86"/>
                    <a:pt x="3193" y="0"/>
                    <a:pt x="3087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solidFill>
              <a:srgbClr val="a8ffa1"/>
            </a:solidFill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87720" y="268272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04160" y="2928960"/>
              <a:ext cx="224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nuclear regulato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33640" y="3109680"/>
              <a:ext cx="86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autho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075640" y="5734080"/>
            <a:ext cx="1794960" cy="529920"/>
            <a:chOff x="5075640" y="5734080"/>
            <a:chExt cx="1794960" cy="529920"/>
          </a:xfrm>
        </p:grpSpPr>
        <p:sp>
          <p:nvSpPr>
            <p:cNvPr id="131" name=""/>
            <p:cNvSpPr/>
            <p:nvPr/>
          </p:nvSpPr>
          <p:spPr>
            <a:xfrm>
              <a:off x="5162400" y="5734080"/>
              <a:ext cx="1708200" cy="529920"/>
            </a:xfrm>
            <a:custGeom>
              <a:avLst/>
              <a:gdLst/>
              <a:ahLst/>
              <a:rect l="l" t="t" r="r" b="b"/>
              <a:pathLst>
                <a:path w="3070" h="1535">
                  <a:moveTo>
                    <a:pt x="192" y="1535"/>
                  </a:moveTo>
                  <a:lnTo>
                    <a:pt x="2878" y="1535"/>
                  </a:lnTo>
                  <a:cubicBezTo>
                    <a:pt x="2984" y="1535"/>
                    <a:pt x="3070" y="1449"/>
                    <a:pt x="3070" y="1343"/>
                  </a:cubicBezTo>
                  <a:cubicBezTo>
                    <a:pt x="3070" y="1343"/>
                    <a:pt x="3070" y="1343"/>
                    <a:pt x="3070" y="1343"/>
                  </a:cubicBezTo>
                  <a:lnTo>
                    <a:pt x="3070" y="1343"/>
                  </a:lnTo>
                  <a:lnTo>
                    <a:pt x="3070" y="192"/>
                  </a:lnTo>
                  <a:cubicBezTo>
                    <a:pt x="3070" y="86"/>
                    <a:pt x="2984" y="0"/>
                    <a:pt x="287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343"/>
                  </a:lnTo>
                  <a:cubicBezTo>
                    <a:pt x="0" y="1449"/>
                    <a:pt x="86" y="1535"/>
                    <a:pt x="192" y="153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7520" y="575604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75640" y="5946480"/>
              <a:ext cx="175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-owned ut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093080" y="2617920"/>
            <a:ext cx="647640" cy="433080"/>
            <a:chOff x="7093080" y="2617920"/>
            <a:chExt cx="647640" cy="433080"/>
          </a:xfrm>
        </p:grpSpPr>
        <p:sp>
          <p:nvSpPr>
            <p:cNvPr id="135" name=""/>
            <p:cNvSpPr/>
            <p:nvPr/>
          </p:nvSpPr>
          <p:spPr>
            <a:xfrm>
              <a:off x="7093080" y="2617920"/>
              <a:ext cx="647640" cy="433080"/>
            </a:xfrm>
            <a:custGeom>
              <a:avLst/>
              <a:gdLst/>
              <a:ahLst/>
              <a:rect l="l" t="t" r="r" b="b"/>
              <a:pathLst>
                <a:path w="2930" h="1256">
                  <a:moveTo>
                    <a:pt x="192" y="1256"/>
                  </a:moveTo>
                  <a:lnTo>
                    <a:pt x="2738" y="1256"/>
                  </a:lnTo>
                  <a:cubicBezTo>
                    <a:pt x="2844" y="1256"/>
                    <a:pt x="2930" y="1170"/>
                    <a:pt x="2930" y="1064"/>
                  </a:cubicBezTo>
                  <a:cubicBezTo>
                    <a:pt x="2930" y="1064"/>
                    <a:pt x="2930" y="1064"/>
                    <a:pt x="2930" y="1064"/>
                  </a:cubicBezTo>
                  <a:lnTo>
                    <a:pt x="2930" y="1064"/>
                  </a:lnTo>
                  <a:lnTo>
                    <a:pt x="2930" y="192"/>
                  </a:lnTo>
                  <a:cubicBezTo>
                    <a:pt x="2930" y="86"/>
                    <a:pt x="2844" y="0"/>
                    <a:pt x="273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81280" y="2690640"/>
              <a:ext cx="52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O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260360" y="4005360"/>
            <a:ext cx="2016360" cy="890640"/>
            <a:chOff x="1260360" y="4005360"/>
            <a:chExt cx="2016360" cy="890640"/>
          </a:xfrm>
        </p:grpSpPr>
        <p:sp>
          <p:nvSpPr>
            <p:cNvPr id="138" name=""/>
            <p:cNvSpPr/>
            <p:nvPr/>
          </p:nvSpPr>
          <p:spPr>
            <a:xfrm>
              <a:off x="1260360" y="4005360"/>
              <a:ext cx="2016360" cy="890640"/>
            </a:xfrm>
            <a:custGeom>
              <a:avLst/>
              <a:gdLst/>
              <a:ahLst/>
              <a:rect l="l" t="t" r="r" b="b"/>
              <a:pathLst>
                <a:path w="3557" h="1535">
                  <a:moveTo>
                    <a:pt x="192" y="1535"/>
                  </a:moveTo>
                  <a:lnTo>
                    <a:pt x="3365" y="1535"/>
                  </a:lnTo>
                  <a:cubicBezTo>
                    <a:pt x="3471" y="1535"/>
                    <a:pt x="3557" y="1449"/>
                    <a:pt x="3557" y="1343"/>
                  </a:cubicBezTo>
                  <a:cubicBezTo>
                    <a:pt x="3557" y="1343"/>
                    <a:pt x="3557" y="1343"/>
                    <a:pt x="3557" y="1343"/>
                  </a:cubicBezTo>
                  <a:lnTo>
                    <a:pt x="3557" y="1343"/>
                  </a:lnTo>
                  <a:lnTo>
                    <a:pt x="3557" y="192"/>
                  </a:lnTo>
                  <a:cubicBezTo>
                    <a:pt x="3557" y="86"/>
                    <a:pt x="3471" y="0"/>
                    <a:pt x="3365" y="0"/>
                  </a:cubicBezTo>
                  <a:lnTo>
                    <a:pt x="192" y="0"/>
                  </a:lnTo>
                  <a:cubicBezTo>
                    <a:pt x="85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343"/>
                  </a:lnTo>
                  <a:cubicBezTo>
                    <a:pt x="0" y="1449"/>
                    <a:pt x="85" y="1535"/>
                    <a:pt x="192" y="1535"/>
                  </a:cubicBezTo>
                </a:path>
              </a:pathLst>
            </a:custGeom>
            <a:solidFill>
              <a:srgbClr val="feb8c9"/>
            </a:solidFill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3320" y="4081680"/>
              <a:ext cx="64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C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43160" y="4362480"/>
              <a:ext cx="178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atory oversig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72400" y="4565880"/>
              <a:ext cx="157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adioactive was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9280" y="4005360"/>
            <a:ext cx="915840" cy="745920"/>
            <a:chOff x="179280" y="4005360"/>
            <a:chExt cx="915840" cy="745920"/>
          </a:xfrm>
        </p:grpSpPr>
        <p:sp>
          <p:nvSpPr>
            <p:cNvPr id="143" name=""/>
            <p:cNvSpPr/>
            <p:nvPr/>
          </p:nvSpPr>
          <p:spPr>
            <a:xfrm>
              <a:off x="179280" y="4005360"/>
              <a:ext cx="915840" cy="745920"/>
            </a:xfrm>
            <a:custGeom>
              <a:avLst/>
              <a:gdLst/>
              <a:ahLst/>
              <a:rect l="l" t="t" r="r" b="b"/>
              <a:pathLst>
                <a:path w="3000" h="1535">
                  <a:moveTo>
                    <a:pt x="192" y="1535"/>
                  </a:moveTo>
                  <a:lnTo>
                    <a:pt x="2808" y="1535"/>
                  </a:lnTo>
                  <a:cubicBezTo>
                    <a:pt x="2914" y="1535"/>
                    <a:pt x="3000" y="1449"/>
                    <a:pt x="3000" y="1343"/>
                  </a:cubicBezTo>
                  <a:cubicBezTo>
                    <a:pt x="3000" y="1343"/>
                    <a:pt x="3000" y="1343"/>
                    <a:pt x="3000" y="1343"/>
                  </a:cubicBezTo>
                  <a:lnTo>
                    <a:pt x="3000" y="1343"/>
                  </a:lnTo>
                  <a:lnTo>
                    <a:pt x="3000" y="192"/>
                  </a:lnTo>
                  <a:cubicBezTo>
                    <a:pt x="3000" y="86"/>
                    <a:pt x="2914" y="0"/>
                    <a:pt x="280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343"/>
                  </a:lnTo>
                  <a:cubicBezTo>
                    <a:pt x="0" y="1449"/>
                    <a:pt x="86" y="1535"/>
                    <a:pt x="192" y="1535"/>
                  </a:cubicBezTo>
                </a:path>
              </a:pathLst>
            </a:custGeom>
            <a:solidFill>
              <a:srgbClr val="cbfeff"/>
            </a:solidFill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5840" y="4105080"/>
              <a:ext cx="54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5120" y="4390920"/>
              <a:ext cx="48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&amp;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84360" y="2262240"/>
            <a:ext cx="7704000" cy="1440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416400" y="3989520"/>
            <a:ext cx="1442880" cy="888840"/>
            <a:chOff x="3416400" y="3989520"/>
            <a:chExt cx="1442880" cy="888840"/>
          </a:xfrm>
        </p:grpSpPr>
        <p:sp>
          <p:nvSpPr>
            <p:cNvPr id="148" name=""/>
            <p:cNvSpPr/>
            <p:nvPr/>
          </p:nvSpPr>
          <p:spPr>
            <a:xfrm>
              <a:off x="3416400" y="3989520"/>
              <a:ext cx="1442880" cy="888840"/>
            </a:xfrm>
            <a:custGeom>
              <a:avLst/>
              <a:gdLst/>
              <a:ahLst/>
              <a:rect l="l" t="t" r="r" b="b"/>
              <a:pathLst>
                <a:path w="3558" h="1535">
                  <a:moveTo>
                    <a:pt x="192" y="1535"/>
                  </a:moveTo>
                  <a:lnTo>
                    <a:pt x="3366" y="1535"/>
                  </a:lnTo>
                  <a:cubicBezTo>
                    <a:pt x="3472" y="1535"/>
                    <a:pt x="3558" y="1449"/>
                    <a:pt x="3558" y="1343"/>
                  </a:cubicBezTo>
                  <a:cubicBezTo>
                    <a:pt x="3558" y="1343"/>
                    <a:pt x="3558" y="1343"/>
                    <a:pt x="3558" y="1343"/>
                  </a:cubicBezTo>
                  <a:lnTo>
                    <a:pt x="3558" y="1343"/>
                  </a:lnTo>
                  <a:lnTo>
                    <a:pt x="3558" y="192"/>
                  </a:lnTo>
                  <a:cubicBezTo>
                    <a:pt x="3558" y="86"/>
                    <a:pt x="3472" y="0"/>
                    <a:pt x="3366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343"/>
                  </a:lnTo>
                  <a:cubicBezTo>
                    <a:pt x="0" y="1449"/>
                    <a:pt x="86" y="1535"/>
                    <a:pt x="192" y="1535"/>
                  </a:cubicBezTo>
                </a:path>
              </a:pathLst>
            </a:custGeom>
            <a:solidFill>
              <a:srgbClr val="f4d6fe"/>
            </a:solidFill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11400" y="4060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08920" y="4346640"/>
              <a:ext cx="127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vironmen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5280" y="453060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V="1">
            <a:off x="630360" y="3646440"/>
            <a:ext cx="3510000" cy="648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1989000"/>
            <a:ext cx="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092560" y="2565360"/>
            <a:ext cx="1928880" cy="846000"/>
            <a:chOff x="5092560" y="2565360"/>
            <a:chExt cx="1928880" cy="846000"/>
          </a:xfrm>
        </p:grpSpPr>
        <p:sp>
          <p:nvSpPr>
            <p:cNvPr id="155" name=""/>
            <p:cNvSpPr/>
            <p:nvPr/>
          </p:nvSpPr>
          <p:spPr>
            <a:xfrm>
              <a:off x="5252760" y="2565360"/>
              <a:ext cx="1465560" cy="846000"/>
            </a:xfrm>
            <a:custGeom>
              <a:avLst/>
              <a:gdLst/>
              <a:ahLst/>
              <a:rect l="l" t="t" r="r" b="b"/>
              <a:pathLst>
                <a:path w="3244" h="1256">
                  <a:moveTo>
                    <a:pt x="192" y="1256"/>
                  </a:moveTo>
                  <a:lnTo>
                    <a:pt x="3052" y="1256"/>
                  </a:lnTo>
                  <a:cubicBezTo>
                    <a:pt x="3158" y="1256"/>
                    <a:pt x="3244" y="1170"/>
                    <a:pt x="3244" y="1064"/>
                  </a:cubicBezTo>
                  <a:cubicBezTo>
                    <a:pt x="3244" y="1064"/>
                    <a:pt x="3244" y="1064"/>
                    <a:pt x="3244" y="1064"/>
                  </a:cubicBezTo>
                  <a:lnTo>
                    <a:pt x="3244" y="1064"/>
                  </a:lnTo>
                  <a:lnTo>
                    <a:pt x="3244" y="192"/>
                  </a:lnTo>
                  <a:cubicBezTo>
                    <a:pt x="3244" y="86"/>
                    <a:pt x="3158" y="0"/>
                    <a:pt x="3052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4800" y="261288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O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38520" y="2900160"/>
              <a:ext cx="1582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in charge of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2560" y="3036600"/>
              <a:ext cx="18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energy poli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79280" y="2565360"/>
            <a:ext cx="1201320" cy="720720"/>
            <a:chOff x="179280" y="2565360"/>
            <a:chExt cx="1201320" cy="720720"/>
          </a:xfrm>
        </p:grpSpPr>
        <p:sp>
          <p:nvSpPr>
            <p:cNvPr id="160" name=""/>
            <p:cNvSpPr/>
            <p:nvPr/>
          </p:nvSpPr>
          <p:spPr>
            <a:xfrm>
              <a:off x="179280" y="2565360"/>
              <a:ext cx="1201320" cy="720720"/>
            </a:xfrm>
            <a:custGeom>
              <a:avLst/>
              <a:gdLst/>
              <a:ahLst/>
              <a:rect l="l" t="t" r="r" b="b"/>
              <a:pathLst>
                <a:path w="2930" h="1256">
                  <a:moveTo>
                    <a:pt x="192" y="1256"/>
                  </a:moveTo>
                  <a:lnTo>
                    <a:pt x="2738" y="1256"/>
                  </a:lnTo>
                  <a:cubicBezTo>
                    <a:pt x="2844" y="1256"/>
                    <a:pt x="2930" y="1170"/>
                    <a:pt x="2930" y="1064"/>
                  </a:cubicBezTo>
                  <a:cubicBezTo>
                    <a:pt x="2930" y="1064"/>
                    <a:pt x="2930" y="1064"/>
                    <a:pt x="2930" y="1064"/>
                  </a:cubicBezTo>
                  <a:lnTo>
                    <a:pt x="2930" y="1064"/>
                  </a:lnTo>
                  <a:lnTo>
                    <a:pt x="2930" y="192"/>
                  </a:lnTo>
                  <a:cubicBezTo>
                    <a:pt x="2930" y="86"/>
                    <a:pt x="2844" y="0"/>
                    <a:pt x="273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80" y="265428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E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560" y="2914560"/>
              <a:ext cx="102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EIA revie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308720" y="4005360"/>
            <a:ext cx="792000" cy="431640"/>
            <a:chOff x="7308720" y="4005360"/>
            <a:chExt cx="792000" cy="431640"/>
          </a:xfrm>
        </p:grpSpPr>
        <p:sp>
          <p:nvSpPr>
            <p:cNvPr id="164" name=""/>
            <p:cNvSpPr/>
            <p:nvPr/>
          </p:nvSpPr>
          <p:spPr>
            <a:xfrm>
              <a:off x="7308720" y="4005360"/>
              <a:ext cx="792000" cy="431640"/>
            </a:xfrm>
            <a:custGeom>
              <a:avLst/>
              <a:gdLst/>
              <a:ahLst/>
              <a:rect l="l" t="t" r="r" b="b"/>
              <a:pathLst>
                <a:path w="2930" h="1256">
                  <a:moveTo>
                    <a:pt x="192" y="1256"/>
                  </a:moveTo>
                  <a:lnTo>
                    <a:pt x="2738" y="1256"/>
                  </a:lnTo>
                  <a:cubicBezTo>
                    <a:pt x="2844" y="1256"/>
                    <a:pt x="2930" y="1170"/>
                    <a:pt x="2930" y="1064"/>
                  </a:cubicBezTo>
                  <a:cubicBezTo>
                    <a:pt x="2930" y="1064"/>
                    <a:pt x="2930" y="1064"/>
                    <a:pt x="2930" y="1064"/>
                  </a:cubicBezTo>
                  <a:lnTo>
                    <a:pt x="2930" y="1064"/>
                  </a:lnTo>
                  <a:lnTo>
                    <a:pt x="2930" y="192"/>
                  </a:lnTo>
                  <a:cubicBezTo>
                    <a:pt x="2930" y="86"/>
                    <a:pt x="2844" y="0"/>
                    <a:pt x="273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05560" y="4078440"/>
              <a:ext cx="63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TH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020000" y="5734080"/>
            <a:ext cx="1690560" cy="503280"/>
          </a:xfrm>
          <a:custGeom>
            <a:avLst/>
            <a:gdLst/>
            <a:ahLst/>
            <a:rect l="l" t="t" r="r" b="b"/>
            <a:pathLst>
              <a:path w="2930" h="1256">
                <a:moveTo>
                  <a:pt x="192" y="1256"/>
                </a:moveTo>
                <a:lnTo>
                  <a:pt x="2738" y="1256"/>
                </a:lnTo>
                <a:cubicBezTo>
                  <a:pt x="2844" y="1256"/>
                  <a:pt x="2930" y="1170"/>
                  <a:pt x="2930" y="1064"/>
                </a:cubicBezTo>
                <a:cubicBezTo>
                  <a:pt x="2930" y="1064"/>
                  <a:pt x="2930" y="1064"/>
                  <a:pt x="2930" y="1064"/>
                </a:cubicBezTo>
                <a:lnTo>
                  <a:pt x="2930" y="1064"/>
                </a:lnTo>
                <a:lnTo>
                  <a:pt x="2930" y="192"/>
                </a:lnTo>
                <a:cubicBezTo>
                  <a:pt x="2930" y="86"/>
                  <a:pt x="2844" y="0"/>
                  <a:pt x="2738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064"/>
                </a:lnTo>
                <a:cubicBezTo>
                  <a:pt x="0" y="1170"/>
                  <a:pt x="86" y="1256"/>
                  <a:pt x="192" y="12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86200" y="5745240"/>
            <a:ext cx="64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961240"/>
            <a:ext cx="147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arch re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850160" y="2616120"/>
            <a:ext cx="1160280" cy="513000"/>
            <a:chOff x="7850160" y="2616120"/>
            <a:chExt cx="1160280" cy="513000"/>
          </a:xfrm>
        </p:grpSpPr>
        <p:sp>
          <p:nvSpPr>
            <p:cNvPr id="170" name=""/>
            <p:cNvSpPr/>
            <p:nvPr/>
          </p:nvSpPr>
          <p:spPr>
            <a:xfrm>
              <a:off x="7850160" y="261612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21440" y="268776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02440" y="276876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th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88000" y="4005360"/>
            <a:ext cx="2519280" cy="702360"/>
            <a:chOff x="4788000" y="4005360"/>
            <a:chExt cx="2519280" cy="702360"/>
          </a:xfrm>
        </p:grpSpPr>
        <p:sp>
          <p:nvSpPr>
            <p:cNvPr id="174" name=""/>
            <p:cNvSpPr/>
            <p:nvPr/>
          </p:nvSpPr>
          <p:spPr>
            <a:xfrm>
              <a:off x="4948200" y="4005360"/>
              <a:ext cx="2216160" cy="684000"/>
            </a:xfrm>
            <a:custGeom>
              <a:avLst/>
              <a:gdLst/>
              <a:ahLst/>
              <a:rect l="l" t="t" r="r" b="b"/>
              <a:pathLst>
                <a:path w="3244" h="1256">
                  <a:moveTo>
                    <a:pt x="192" y="1256"/>
                  </a:moveTo>
                  <a:lnTo>
                    <a:pt x="3052" y="1256"/>
                  </a:lnTo>
                  <a:cubicBezTo>
                    <a:pt x="3158" y="1256"/>
                    <a:pt x="3244" y="1170"/>
                    <a:pt x="3244" y="1064"/>
                  </a:cubicBezTo>
                  <a:cubicBezTo>
                    <a:pt x="3244" y="1064"/>
                    <a:pt x="3244" y="1064"/>
                    <a:pt x="3244" y="1064"/>
                  </a:cubicBezTo>
                  <a:lnTo>
                    <a:pt x="3244" y="1064"/>
                  </a:lnTo>
                  <a:lnTo>
                    <a:pt x="3244" y="192"/>
                  </a:lnTo>
                  <a:cubicBezTo>
                    <a:pt x="3244" y="86"/>
                    <a:pt x="3158" y="0"/>
                    <a:pt x="3052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45320" y="402732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00800" y="4225680"/>
              <a:ext cx="158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-own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88000" y="4370400"/>
              <a:ext cx="25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terprise Commi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538440" y="2583000"/>
            <a:ext cx="1465200" cy="846000"/>
          </a:xfrm>
          <a:custGeom>
            <a:avLst/>
            <a:gdLst/>
            <a:ahLst/>
            <a:rect l="l" t="t" r="r" b="b"/>
            <a:pathLst>
              <a:path w="3244" h="1256">
                <a:moveTo>
                  <a:pt x="192" y="1256"/>
                </a:moveTo>
                <a:lnTo>
                  <a:pt x="3052" y="1256"/>
                </a:lnTo>
                <a:cubicBezTo>
                  <a:pt x="3158" y="1256"/>
                  <a:pt x="3244" y="1170"/>
                  <a:pt x="3244" y="1064"/>
                </a:cubicBezTo>
                <a:cubicBezTo>
                  <a:pt x="3244" y="1064"/>
                  <a:pt x="3244" y="1064"/>
                  <a:pt x="3244" y="1064"/>
                </a:cubicBezTo>
                <a:lnTo>
                  <a:pt x="3244" y="1064"/>
                </a:lnTo>
                <a:lnTo>
                  <a:pt x="3244" y="192"/>
                </a:lnTo>
                <a:cubicBezTo>
                  <a:pt x="3244" y="86"/>
                  <a:pt x="3158" y="0"/>
                  <a:pt x="3052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064"/>
                </a:lnTo>
                <a:cubicBezTo>
                  <a:pt x="0" y="1170"/>
                  <a:pt x="86" y="1256"/>
                  <a:pt x="192" y="12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95640" y="2630520"/>
            <a:ext cx="64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65600" y="2917800"/>
            <a:ext cx="158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3399"/>
                </a:solidFill>
                <a:latin typeface="Arial"/>
              </a:rPr>
              <a:t>Sci &amp; Te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02000" y="306864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2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24720" y="3068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40720" y="443700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12000" y="4724280"/>
            <a:ext cx="0" cy="10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4036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1164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1200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5164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8836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50D-10E1-45CC-BC26-E0F0B09A78C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標楷體"/>
              </a:rPr>
              <a:t>Proposed Government Organiz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86640" y="4649760"/>
            <a:ext cx="1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203640" y="1341360"/>
            <a:ext cx="2746080" cy="633600"/>
            <a:chOff x="3203640" y="1341360"/>
            <a:chExt cx="2746080" cy="633600"/>
          </a:xfrm>
        </p:grpSpPr>
        <p:sp>
          <p:nvSpPr>
            <p:cNvPr id="198" name=""/>
            <p:cNvSpPr/>
            <p:nvPr/>
          </p:nvSpPr>
          <p:spPr>
            <a:xfrm>
              <a:off x="3203640" y="1341360"/>
              <a:ext cx="2746080" cy="633600"/>
            </a:xfrm>
            <a:custGeom>
              <a:avLst/>
              <a:gdLst/>
              <a:ahLst/>
              <a:rect l="l" t="t" r="r" b="b"/>
              <a:pathLst>
                <a:path w="5929" h="768">
                  <a:moveTo>
                    <a:pt x="256" y="768"/>
                  </a:moveTo>
                  <a:lnTo>
                    <a:pt x="5673" y="768"/>
                  </a:lnTo>
                  <a:cubicBezTo>
                    <a:pt x="5815" y="768"/>
                    <a:pt x="5929" y="653"/>
                    <a:pt x="5929" y="512"/>
                  </a:cubicBezTo>
                  <a:cubicBezTo>
                    <a:pt x="5929" y="512"/>
                    <a:pt x="5929" y="512"/>
                    <a:pt x="5929" y="512"/>
                  </a:cubicBezTo>
                  <a:lnTo>
                    <a:pt x="5929" y="512"/>
                  </a:lnTo>
                  <a:lnTo>
                    <a:pt x="5929" y="256"/>
                  </a:lnTo>
                  <a:cubicBezTo>
                    <a:pt x="5929" y="115"/>
                    <a:pt x="5815" y="0"/>
                    <a:pt x="5673" y="0"/>
                  </a:cubicBezTo>
                  <a:lnTo>
                    <a:pt x="5673" y="0"/>
                  </a:lnTo>
                  <a:lnTo>
                    <a:pt x="256" y="0"/>
                  </a:lnTo>
                  <a:cubicBezTo>
                    <a:pt x="114" y="0"/>
                    <a:pt x="0" y="115"/>
                    <a:pt x="0" y="256"/>
                  </a:cubicBezTo>
                  <a:lnTo>
                    <a:pt x="0" y="256"/>
                  </a:lnTo>
                  <a:lnTo>
                    <a:pt x="0" y="512"/>
                  </a:lnTo>
                  <a:cubicBezTo>
                    <a:pt x="0" y="653"/>
                    <a:pt x="114" y="768"/>
                    <a:pt x="256" y="768"/>
                  </a:cubicBezTo>
                  <a:close/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90920" y="1501560"/>
              <a:ext cx="231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Executive Yu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403280" y="2565360"/>
            <a:ext cx="1800360" cy="846000"/>
          </a:xfrm>
          <a:custGeom>
            <a:avLst/>
            <a:gdLst/>
            <a:ahLst/>
            <a:rect l="l" t="t" r="r" b="b"/>
            <a:pathLst>
              <a:path w="3279" h="1256">
                <a:moveTo>
                  <a:pt x="192" y="1256"/>
                </a:moveTo>
                <a:lnTo>
                  <a:pt x="3087" y="1256"/>
                </a:lnTo>
                <a:cubicBezTo>
                  <a:pt x="3193" y="1256"/>
                  <a:pt x="3279" y="1170"/>
                  <a:pt x="3279" y="1064"/>
                </a:cubicBezTo>
                <a:cubicBezTo>
                  <a:pt x="3279" y="1064"/>
                  <a:pt x="3279" y="1064"/>
                  <a:pt x="3279" y="1064"/>
                </a:cubicBezTo>
                <a:lnTo>
                  <a:pt x="3279" y="1064"/>
                </a:lnTo>
                <a:lnTo>
                  <a:pt x="3279" y="192"/>
                </a:lnTo>
                <a:cubicBezTo>
                  <a:pt x="3279" y="86"/>
                  <a:pt x="3193" y="0"/>
                  <a:pt x="3087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064"/>
                </a:lnTo>
                <a:cubicBezTo>
                  <a:pt x="0" y="1170"/>
                  <a:pt x="86" y="1256"/>
                  <a:pt x="192" y="12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05920" y="2664000"/>
            <a:ext cx="6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03280" y="4336920"/>
            <a:ext cx="204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clear regul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47880" y="4552920"/>
            <a:ext cx="77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075640" y="5516640"/>
            <a:ext cx="1794960" cy="529920"/>
            <a:chOff x="5075640" y="5516640"/>
            <a:chExt cx="1794960" cy="529920"/>
          </a:xfrm>
        </p:grpSpPr>
        <p:sp>
          <p:nvSpPr>
            <p:cNvPr id="205" name=""/>
            <p:cNvSpPr/>
            <p:nvPr/>
          </p:nvSpPr>
          <p:spPr>
            <a:xfrm>
              <a:off x="5162400" y="5516640"/>
              <a:ext cx="1708200" cy="529920"/>
            </a:xfrm>
            <a:custGeom>
              <a:avLst/>
              <a:gdLst/>
              <a:ahLst/>
              <a:rect l="l" t="t" r="r" b="b"/>
              <a:pathLst>
                <a:path w="3070" h="1535">
                  <a:moveTo>
                    <a:pt x="192" y="1535"/>
                  </a:moveTo>
                  <a:lnTo>
                    <a:pt x="2878" y="1535"/>
                  </a:lnTo>
                  <a:cubicBezTo>
                    <a:pt x="2984" y="1535"/>
                    <a:pt x="3070" y="1449"/>
                    <a:pt x="3070" y="1343"/>
                  </a:cubicBezTo>
                  <a:cubicBezTo>
                    <a:pt x="3070" y="1343"/>
                    <a:pt x="3070" y="1343"/>
                    <a:pt x="3070" y="1343"/>
                  </a:cubicBezTo>
                  <a:lnTo>
                    <a:pt x="3070" y="1343"/>
                  </a:lnTo>
                  <a:lnTo>
                    <a:pt x="3070" y="192"/>
                  </a:lnTo>
                  <a:cubicBezTo>
                    <a:pt x="3070" y="86"/>
                    <a:pt x="2984" y="0"/>
                    <a:pt x="287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343"/>
                  </a:lnTo>
                  <a:cubicBezTo>
                    <a:pt x="0" y="1449"/>
                    <a:pt x="86" y="1535"/>
                    <a:pt x="192" y="153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7520" y="553860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75640" y="5729040"/>
              <a:ext cx="175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-owned ut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7093080" y="2617920"/>
            <a:ext cx="647640" cy="433080"/>
            <a:chOff x="7093080" y="2617920"/>
            <a:chExt cx="647640" cy="433080"/>
          </a:xfrm>
        </p:grpSpPr>
        <p:sp>
          <p:nvSpPr>
            <p:cNvPr id="209" name=""/>
            <p:cNvSpPr/>
            <p:nvPr/>
          </p:nvSpPr>
          <p:spPr>
            <a:xfrm>
              <a:off x="7093080" y="2617920"/>
              <a:ext cx="647640" cy="433080"/>
            </a:xfrm>
            <a:custGeom>
              <a:avLst/>
              <a:gdLst/>
              <a:ahLst/>
              <a:rect l="l" t="t" r="r" b="b"/>
              <a:pathLst>
                <a:path w="2930" h="1256">
                  <a:moveTo>
                    <a:pt x="192" y="1256"/>
                  </a:moveTo>
                  <a:lnTo>
                    <a:pt x="2738" y="1256"/>
                  </a:lnTo>
                  <a:cubicBezTo>
                    <a:pt x="2844" y="1256"/>
                    <a:pt x="2930" y="1170"/>
                    <a:pt x="2930" y="1064"/>
                  </a:cubicBezTo>
                  <a:cubicBezTo>
                    <a:pt x="2930" y="1064"/>
                    <a:pt x="2930" y="1064"/>
                    <a:pt x="2930" y="1064"/>
                  </a:cubicBezTo>
                  <a:lnTo>
                    <a:pt x="2930" y="1064"/>
                  </a:lnTo>
                  <a:lnTo>
                    <a:pt x="2930" y="192"/>
                  </a:lnTo>
                  <a:cubicBezTo>
                    <a:pt x="2930" y="86"/>
                    <a:pt x="2844" y="0"/>
                    <a:pt x="273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1280" y="2690640"/>
              <a:ext cx="52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O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332000" y="3860640"/>
            <a:ext cx="2016000" cy="1295640"/>
          </a:xfrm>
          <a:custGeom>
            <a:avLst/>
            <a:gdLst/>
            <a:ahLst/>
            <a:rect l="l" t="t" r="r" b="b"/>
            <a:pathLst>
              <a:path w="3557" h="1535">
                <a:moveTo>
                  <a:pt x="192" y="1535"/>
                </a:moveTo>
                <a:lnTo>
                  <a:pt x="3365" y="1535"/>
                </a:lnTo>
                <a:cubicBezTo>
                  <a:pt x="3471" y="1535"/>
                  <a:pt x="3557" y="1449"/>
                  <a:pt x="3557" y="1343"/>
                </a:cubicBezTo>
                <a:cubicBezTo>
                  <a:pt x="3557" y="1343"/>
                  <a:pt x="3557" y="1343"/>
                  <a:pt x="3557" y="1343"/>
                </a:cubicBezTo>
                <a:lnTo>
                  <a:pt x="3557" y="1343"/>
                </a:lnTo>
                <a:lnTo>
                  <a:pt x="3557" y="192"/>
                </a:lnTo>
                <a:cubicBezTo>
                  <a:pt x="3557" y="86"/>
                  <a:pt x="3471" y="0"/>
                  <a:pt x="3365" y="0"/>
                </a:cubicBezTo>
                <a:lnTo>
                  <a:pt x="192" y="0"/>
                </a:lnTo>
                <a:cubicBezTo>
                  <a:pt x="85" y="0"/>
                  <a:pt x="0" y="86"/>
                  <a:pt x="0" y="192"/>
                </a:cubicBezTo>
                <a:lnTo>
                  <a:pt x="0" y="192"/>
                </a:lnTo>
                <a:lnTo>
                  <a:pt x="0" y="1343"/>
                </a:lnTo>
                <a:cubicBezTo>
                  <a:pt x="0" y="1449"/>
                  <a:pt x="85" y="1535"/>
                  <a:pt x="192" y="1535"/>
                </a:cubicBezTo>
              </a:path>
            </a:pathLst>
          </a:custGeom>
          <a:solidFill>
            <a:srgbClr val="a8ffa1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44880" y="4005360"/>
            <a:ext cx="48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2262240"/>
            <a:ext cx="7632720" cy="1440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47640" y="5516640"/>
            <a:ext cx="1443240" cy="888840"/>
            <a:chOff x="1547640" y="5516640"/>
            <a:chExt cx="1443240" cy="888840"/>
          </a:xfrm>
        </p:grpSpPr>
        <p:sp>
          <p:nvSpPr>
            <p:cNvPr id="215" name=""/>
            <p:cNvSpPr/>
            <p:nvPr/>
          </p:nvSpPr>
          <p:spPr>
            <a:xfrm>
              <a:off x="1547640" y="5516640"/>
              <a:ext cx="1443240" cy="888840"/>
            </a:xfrm>
            <a:custGeom>
              <a:avLst/>
              <a:gdLst/>
              <a:ahLst/>
              <a:rect l="l" t="t" r="r" b="b"/>
              <a:pathLst>
                <a:path w="3558" h="1535">
                  <a:moveTo>
                    <a:pt x="192" y="1535"/>
                  </a:moveTo>
                  <a:lnTo>
                    <a:pt x="3366" y="1535"/>
                  </a:lnTo>
                  <a:cubicBezTo>
                    <a:pt x="3472" y="1535"/>
                    <a:pt x="3558" y="1449"/>
                    <a:pt x="3558" y="1343"/>
                  </a:cubicBezTo>
                  <a:cubicBezTo>
                    <a:pt x="3558" y="1343"/>
                    <a:pt x="3558" y="1343"/>
                    <a:pt x="3558" y="1343"/>
                  </a:cubicBezTo>
                  <a:lnTo>
                    <a:pt x="3558" y="1343"/>
                  </a:lnTo>
                  <a:lnTo>
                    <a:pt x="3558" y="192"/>
                  </a:lnTo>
                  <a:cubicBezTo>
                    <a:pt x="3558" y="86"/>
                    <a:pt x="3472" y="0"/>
                    <a:pt x="3366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343"/>
                  </a:lnTo>
                  <a:cubicBezTo>
                    <a:pt x="0" y="1449"/>
                    <a:pt x="86" y="1535"/>
                    <a:pt x="192" y="1535"/>
                  </a:cubicBezTo>
                </a:path>
              </a:pathLst>
            </a:custGeom>
            <a:solidFill>
              <a:srgbClr val="f4d6fe"/>
            </a:solidFill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43000" y="5587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40520" y="5873760"/>
              <a:ext cx="127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vironmen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56880" y="605772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4140360" y="3564000"/>
            <a:ext cx="2411280" cy="936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1989000"/>
            <a:ext cx="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092560" y="2616120"/>
            <a:ext cx="1928880" cy="846000"/>
            <a:chOff x="5092560" y="2616120"/>
            <a:chExt cx="1928880" cy="846000"/>
          </a:xfrm>
        </p:grpSpPr>
        <p:sp>
          <p:nvSpPr>
            <p:cNvPr id="222" name=""/>
            <p:cNvSpPr/>
            <p:nvPr/>
          </p:nvSpPr>
          <p:spPr>
            <a:xfrm>
              <a:off x="5252760" y="2616120"/>
              <a:ext cx="1465560" cy="846000"/>
            </a:xfrm>
            <a:custGeom>
              <a:avLst/>
              <a:gdLst/>
              <a:ahLst/>
              <a:rect l="l" t="t" r="r" b="b"/>
              <a:pathLst>
                <a:path w="3244" h="1256">
                  <a:moveTo>
                    <a:pt x="192" y="1256"/>
                  </a:moveTo>
                  <a:lnTo>
                    <a:pt x="3052" y="1256"/>
                  </a:lnTo>
                  <a:cubicBezTo>
                    <a:pt x="3158" y="1256"/>
                    <a:pt x="3244" y="1170"/>
                    <a:pt x="3244" y="1064"/>
                  </a:cubicBezTo>
                  <a:cubicBezTo>
                    <a:pt x="3244" y="1064"/>
                    <a:pt x="3244" y="1064"/>
                    <a:pt x="3244" y="1064"/>
                  </a:cubicBezTo>
                  <a:lnTo>
                    <a:pt x="3244" y="1064"/>
                  </a:lnTo>
                  <a:lnTo>
                    <a:pt x="3244" y="192"/>
                  </a:lnTo>
                  <a:cubicBezTo>
                    <a:pt x="3244" y="86"/>
                    <a:pt x="3158" y="0"/>
                    <a:pt x="3052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44800" y="2663640"/>
              <a:ext cx="83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OE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38520" y="2950920"/>
              <a:ext cx="1582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in charge of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92560" y="3087360"/>
              <a:ext cx="18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energy poli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79280" y="2565360"/>
            <a:ext cx="1152720" cy="792360"/>
          </a:xfrm>
          <a:custGeom>
            <a:avLst/>
            <a:gdLst/>
            <a:ahLst/>
            <a:rect l="l" t="t" r="r" b="b"/>
            <a:pathLst>
              <a:path w="2930" h="1256">
                <a:moveTo>
                  <a:pt x="192" y="1256"/>
                </a:moveTo>
                <a:lnTo>
                  <a:pt x="2738" y="1256"/>
                </a:lnTo>
                <a:cubicBezTo>
                  <a:pt x="2844" y="1256"/>
                  <a:pt x="2930" y="1170"/>
                  <a:pt x="2930" y="1064"/>
                </a:cubicBezTo>
                <a:cubicBezTo>
                  <a:pt x="2930" y="1064"/>
                  <a:pt x="2930" y="1064"/>
                  <a:pt x="2930" y="1064"/>
                </a:cubicBezTo>
                <a:lnTo>
                  <a:pt x="2930" y="1064"/>
                </a:lnTo>
                <a:lnTo>
                  <a:pt x="2930" y="192"/>
                </a:lnTo>
                <a:cubicBezTo>
                  <a:pt x="2930" y="86"/>
                  <a:pt x="2844" y="0"/>
                  <a:pt x="2738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064"/>
                </a:lnTo>
                <a:cubicBezTo>
                  <a:pt x="0" y="1170"/>
                  <a:pt x="86" y="1256"/>
                  <a:pt x="192" y="12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6760" y="267984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O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2000" y="2940120"/>
            <a:ext cx="102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IA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236000" y="3789360"/>
            <a:ext cx="792000" cy="431640"/>
            <a:chOff x="7236000" y="3789360"/>
            <a:chExt cx="792000" cy="431640"/>
          </a:xfrm>
        </p:grpSpPr>
        <p:sp>
          <p:nvSpPr>
            <p:cNvPr id="230" name=""/>
            <p:cNvSpPr/>
            <p:nvPr/>
          </p:nvSpPr>
          <p:spPr>
            <a:xfrm>
              <a:off x="7236000" y="3789360"/>
              <a:ext cx="792000" cy="431640"/>
            </a:xfrm>
            <a:custGeom>
              <a:avLst/>
              <a:gdLst/>
              <a:ahLst/>
              <a:rect l="l" t="t" r="r" b="b"/>
              <a:pathLst>
                <a:path w="2930" h="1256">
                  <a:moveTo>
                    <a:pt x="192" y="1256"/>
                  </a:moveTo>
                  <a:lnTo>
                    <a:pt x="2738" y="1256"/>
                  </a:lnTo>
                  <a:cubicBezTo>
                    <a:pt x="2844" y="1256"/>
                    <a:pt x="2930" y="1170"/>
                    <a:pt x="2930" y="1064"/>
                  </a:cubicBezTo>
                  <a:cubicBezTo>
                    <a:pt x="2930" y="1064"/>
                    <a:pt x="2930" y="1064"/>
                    <a:pt x="2930" y="1064"/>
                  </a:cubicBezTo>
                  <a:lnTo>
                    <a:pt x="2930" y="1064"/>
                  </a:lnTo>
                  <a:lnTo>
                    <a:pt x="2930" y="192"/>
                  </a:lnTo>
                  <a:cubicBezTo>
                    <a:pt x="2930" y="86"/>
                    <a:pt x="2844" y="0"/>
                    <a:pt x="273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32840" y="3862440"/>
              <a:ext cx="63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TH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7164360" y="5516640"/>
            <a:ext cx="1690560" cy="503280"/>
            <a:chOff x="7164360" y="5516640"/>
            <a:chExt cx="1690560" cy="503280"/>
          </a:xfrm>
        </p:grpSpPr>
        <p:sp>
          <p:nvSpPr>
            <p:cNvPr id="233" name=""/>
            <p:cNvSpPr/>
            <p:nvPr/>
          </p:nvSpPr>
          <p:spPr>
            <a:xfrm>
              <a:off x="7164360" y="5516640"/>
              <a:ext cx="1690560" cy="503280"/>
            </a:xfrm>
            <a:custGeom>
              <a:avLst/>
              <a:gdLst/>
              <a:ahLst/>
              <a:rect l="l" t="t" r="r" b="b"/>
              <a:pathLst>
                <a:path w="2930" h="1256">
                  <a:moveTo>
                    <a:pt x="192" y="1256"/>
                  </a:moveTo>
                  <a:lnTo>
                    <a:pt x="2738" y="1256"/>
                  </a:lnTo>
                  <a:cubicBezTo>
                    <a:pt x="2844" y="1256"/>
                    <a:pt x="2930" y="1170"/>
                    <a:pt x="2930" y="1064"/>
                  </a:cubicBezTo>
                  <a:cubicBezTo>
                    <a:pt x="2930" y="1064"/>
                    <a:pt x="2930" y="1064"/>
                    <a:pt x="2930" y="1064"/>
                  </a:cubicBezTo>
                  <a:lnTo>
                    <a:pt x="2930" y="1064"/>
                  </a:lnTo>
                  <a:lnTo>
                    <a:pt x="2930" y="192"/>
                  </a:lnTo>
                  <a:cubicBezTo>
                    <a:pt x="2930" y="86"/>
                    <a:pt x="2844" y="0"/>
                    <a:pt x="273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30560" y="5527800"/>
              <a:ext cx="64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94240" y="5743800"/>
              <a:ext cx="1477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arch rea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850160" y="2616120"/>
            <a:ext cx="1160280" cy="513000"/>
            <a:chOff x="7850160" y="2616120"/>
            <a:chExt cx="1160280" cy="513000"/>
          </a:xfrm>
        </p:grpSpPr>
        <p:sp>
          <p:nvSpPr>
            <p:cNvPr id="237" name=""/>
            <p:cNvSpPr/>
            <p:nvPr/>
          </p:nvSpPr>
          <p:spPr>
            <a:xfrm>
              <a:off x="7850160" y="261612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1440" y="268776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002440" y="276876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oth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877000" y="3833640"/>
            <a:ext cx="944640" cy="360360"/>
          </a:xfrm>
          <a:custGeom>
            <a:avLst/>
            <a:gdLst/>
            <a:ahLst/>
            <a:rect l="l" t="t" r="r" b="b"/>
            <a:pathLst>
              <a:path w="3244" h="1256">
                <a:moveTo>
                  <a:pt x="192" y="1256"/>
                </a:moveTo>
                <a:lnTo>
                  <a:pt x="3052" y="1256"/>
                </a:lnTo>
                <a:cubicBezTo>
                  <a:pt x="3158" y="1256"/>
                  <a:pt x="3244" y="1170"/>
                  <a:pt x="3244" y="1064"/>
                </a:cubicBezTo>
                <a:cubicBezTo>
                  <a:pt x="3244" y="1064"/>
                  <a:pt x="3244" y="1064"/>
                  <a:pt x="3244" y="1064"/>
                </a:cubicBezTo>
                <a:lnTo>
                  <a:pt x="3244" y="1064"/>
                </a:lnTo>
                <a:lnTo>
                  <a:pt x="3244" y="192"/>
                </a:lnTo>
                <a:cubicBezTo>
                  <a:pt x="3244" y="86"/>
                  <a:pt x="3158" y="0"/>
                  <a:pt x="3052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064"/>
                </a:lnTo>
                <a:cubicBezTo>
                  <a:pt x="0" y="1170"/>
                  <a:pt x="86" y="1256"/>
                  <a:pt x="192" y="12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67360" y="387828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5280" y="4797360"/>
            <a:ext cx="1015920" cy="243720"/>
          </a:xfrm>
          <a:prstGeom prst="rect">
            <a:avLst/>
          </a:prstGeom>
          <a:solidFill>
            <a:srgbClr val="feb8c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C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656160" y="3860640"/>
            <a:ext cx="915840" cy="746280"/>
            <a:chOff x="3656160" y="3860640"/>
            <a:chExt cx="915840" cy="746280"/>
          </a:xfrm>
        </p:grpSpPr>
        <p:sp>
          <p:nvSpPr>
            <p:cNvPr id="244" name=""/>
            <p:cNvSpPr/>
            <p:nvPr/>
          </p:nvSpPr>
          <p:spPr>
            <a:xfrm>
              <a:off x="3656160" y="3860640"/>
              <a:ext cx="915840" cy="746280"/>
            </a:xfrm>
            <a:custGeom>
              <a:avLst/>
              <a:gdLst/>
              <a:ahLst/>
              <a:rect l="l" t="t" r="r" b="b"/>
              <a:pathLst>
                <a:path w="3000" h="1535">
                  <a:moveTo>
                    <a:pt x="192" y="1535"/>
                  </a:moveTo>
                  <a:lnTo>
                    <a:pt x="2808" y="1535"/>
                  </a:lnTo>
                  <a:cubicBezTo>
                    <a:pt x="2914" y="1535"/>
                    <a:pt x="3000" y="1449"/>
                    <a:pt x="3000" y="1343"/>
                  </a:cubicBezTo>
                  <a:cubicBezTo>
                    <a:pt x="3000" y="1343"/>
                    <a:pt x="3000" y="1343"/>
                    <a:pt x="3000" y="1343"/>
                  </a:cubicBezTo>
                  <a:lnTo>
                    <a:pt x="3000" y="1343"/>
                  </a:lnTo>
                  <a:lnTo>
                    <a:pt x="3000" y="192"/>
                  </a:lnTo>
                  <a:cubicBezTo>
                    <a:pt x="3000" y="86"/>
                    <a:pt x="2914" y="0"/>
                    <a:pt x="280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343"/>
                  </a:lnTo>
                  <a:cubicBezTo>
                    <a:pt x="0" y="1449"/>
                    <a:pt x="86" y="1535"/>
                    <a:pt x="192" y="1535"/>
                  </a:cubicBezTo>
                </a:path>
              </a:pathLst>
            </a:custGeom>
            <a:solidFill>
              <a:srgbClr val="cbfeff"/>
            </a:solidFill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52000" y="3960720"/>
              <a:ext cx="50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52720" y="424656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R&amp;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11280" y="3645000"/>
            <a:ext cx="1728720" cy="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000" y="3933720"/>
            <a:ext cx="1160280" cy="513000"/>
            <a:chOff x="27000" y="3933720"/>
            <a:chExt cx="1160280" cy="513000"/>
          </a:xfrm>
        </p:grpSpPr>
        <p:sp>
          <p:nvSpPr>
            <p:cNvPr id="249" name=""/>
            <p:cNvSpPr/>
            <p:nvPr/>
          </p:nvSpPr>
          <p:spPr>
            <a:xfrm>
              <a:off x="27000" y="393372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8280" y="400536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9280" y="408636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th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502640" y="414972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ar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2000" y="4238640"/>
            <a:ext cx="0" cy="13669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68360" y="5157720"/>
            <a:ext cx="0" cy="3589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3645000"/>
            <a:ext cx="0" cy="288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276640"/>
            <a:ext cx="0" cy="288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40000" y="2276640"/>
            <a:ext cx="0" cy="288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12000" y="2276640"/>
            <a:ext cx="0" cy="288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51640" y="2276640"/>
            <a:ext cx="0" cy="288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17080" y="2276640"/>
            <a:ext cx="0" cy="288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340000" y="3429000"/>
            <a:ext cx="0" cy="43164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40360" y="357336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24720" y="3068640"/>
            <a:ext cx="0" cy="720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885080" y="4221000"/>
            <a:ext cx="0" cy="129564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2000" y="3500280"/>
            <a:ext cx="0" cy="28908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11280" y="2933640"/>
            <a:ext cx="158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 charg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22360" y="306864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 &amp; T devel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51280" y="3833640"/>
            <a:ext cx="944640" cy="360360"/>
          </a:xfrm>
          <a:custGeom>
            <a:avLst/>
            <a:gdLst/>
            <a:ahLst/>
            <a:rect l="l" t="t" r="r" b="b"/>
            <a:pathLst>
              <a:path w="3244" h="1256">
                <a:moveTo>
                  <a:pt x="192" y="1256"/>
                </a:moveTo>
                <a:lnTo>
                  <a:pt x="3052" y="1256"/>
                </a:lnTo>
                <a:cubicBezTo>
                  <a:pt x="3158" y="1256"/>
                  <a:pt x="3244" y="1170"/>
                  <a:pt x="3244" y="1064"/>
                </a:cubicBezTo>
                <a:cubicBezTo>
                  <a:pt x="3244" y="1064"/>
                  <a:pt x="3244" y="1064"/>
                  <a:pt x="3244" y="1064"/>
                </a:cubicBezTo>
                <a:lnTo>
                  <a:pt x="3244" y="1064"/>
                </a:lnTo>
                <a:lnTo>
                  <a:pt x="3244" y="192"/>
                </a:lnTo>
                <a:cubicBezTo>
                  <a:pt x="3244" y="86"/>
                  <a:pt x="3158" y="0"/>
                  <a:pt x="3052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064"/>
                </a:lnTo>
                <a:cubicBezTo>
                  <a:pt x="0" y="1170"/>
                  <a:pt x="86" y="1256"/>
                  <a:pt x="192" y="12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57720" y="356400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85920" y="38782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90D-8D74-49BD-9241-F3469F990A6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06:05:09Z</dcterms:created>
  <dc:creator>ytchang_張禕庭</dc:creator>
  <dc:description/>
  <dc:language>en-US</dc:language>
  <cp:lastModifiedBy>ｃｓｗ ◣版權所有 翻印必究◢</cp:lastModifiedBy>
  <dcterms:modified xsi:type="dcterms:W3CDTF">2013-09-21T03:33:25Z</dcterms:modified>
  <cp:revision>7</cp:revision>
  <dc:subject/>
  <dc:title>Government Reform in Taiwan</dc:title>
</cp:coreProperties>
</file>